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666-18D2-44F3-805A-08C03D9F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2AA-CAA0-42AD-B20D-7F793C5F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15E-E508-407B-81A9-E7744E48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B55-1415-4D52-B8AE-03ABC897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0A6-5D65-4330-8816-54417AD7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EF2-C3C6-4890-A1C8-712FCC49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17F8-F14C-4746-A000-4D979188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57DC-4006-4936-B196-37C4C8B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13C8-53F4-4C40-82F9-15163BC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CE16-C51C-4A1A-A7E9-40EB2190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5FD4-8415-4244-966A-5FCB169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96C-3551-40DF-AEE1-5B1228D1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73E-7F2C-4CBB-A483-D119788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2E44-11E5-43B0-AD51-61B652D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C6F-5F04-4568-A276-DFED102F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36E3-7075-4770-BF30-995CD276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92AD-5683-43D0-8BD6-21635435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BB7-5D61-449F-8257-1C86045E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C60-4E63-400E-8E84-5072CC7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EE5-3F36-44B0-8340-AB309FB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C53-4D5D-4163-B96F-2AB0AF9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108-4C0A-49DC-865A-8575B88F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25D-D392-4C2B-B625-7C41FF4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751-77DA-42CD-B016-C82FF4E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5A53-760A-4179-832F-B0FCA6579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C91F-2F26-4177-BF14-9E946AF4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divide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Div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14400" y="1676520"/>
          <a:ext cx="99072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76520"/>
                    <a:ext cx="990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3429000"/>
                <a:ext cx="12193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90720" y="5029200"/>
                <a:ext cx="1143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28800" y="1857240"/>
            <a:ext cx="876240" cy="652680"/>
          </a:xfrm>
          <a:custGeom>
            <a:avLst/>
            <a:gdLst/>
            <a:ahLst/>
            <a:rect l="l" t="t" r="r" b="b"/>
            <a:pathLst>
              <a:path w="2432" h="1812">
                <a:moveTo>
                  <a:pt x="2580" y="5184"/>
                </a:moveTo>
                <a:cubicBezTo>
                  <a:pt x="2847" y="5139"/>
                  <a:pt x="3182" y="5149"/>
                  <a:pt x="3448" y="5184"/>
                </a:cubicBezTo>
                <a:cubicBezTo>
                  <a:pt x="3826" y="5234"/>
                  <a:pt x="4295" y="5352"/>
                  <a:pt x="4614" y="5556"/>
                </a:cubicBezTo>
                <a:cubicBezTo>
                  <a:pt x="4357" y="5653"/>
                  <a:pt x="4051" y="5594"/>
                  <a:pt x="3770" y="5606"/>
                </a:cubicBezTo>
                <a:cubicBezTo>
                  <a:pt x="3605" y="5613"/>
                  <a:pt x="3093" y="5599"/>
                  <a:pt x="2952" y="5730"/>
                </a:cubicBezTo>
                <a:cubicBezTo>
                  <a:pt x="2952" y="5746"/>
                  <a:pt x="2952" y="5763"/>
                  <a:pt x="2952" y="5779"/>
                </a:cubicBezTo>
                <a:cubicBezTo>
                  <a:pt x="3290" y="5934"/>
                  <a:pt x="3644" y="5853"/>
                  <a:pt x="4018" y="5879"/>
                </a:cubicBezTo>
                <a:cubicBezTo>
                  <a:pt x="4312" y="5899"/>
                  <a:pt x="4612" y="5959"/>
                  <a:pt x="4887" y="6028"/>
                </a:cubicBezTo>
                <a:cubicBezTo>
                  <a:pt x="4509" y="6126"/>
                  <a:pt x="4125" y="6204"/>
                  <a:pt x="3746" y="6300"/>
                </a:cubicBezTo>
                <a:cubicBezTo>
                  <a:pt x="3442" y="6377"/>
                  <a:pt x="3152" y="6461"/>
                  <a:pt x="2853" y="6548"/>
                </a:cubicBezTo>
                <a:cubicBezTo>
                  <a:pt x="3319" y="6575"/>
                  <a:pt x="3774" y="6483"/>
                  <a:pt x="4242" y="6449"/>
                </a:cubicBezTo>
                <a:cubicBezTo>
                  <a:pt x="4527" y="6428"/>
                  <a:pt x="4737" y="6430"/>
                  <a:pt x="5011" y="6474"/>
                </a:cubicBezTo>
                <a:cubicBezTo>
                  <a:pt x="4636" y="6595"/>
                  <a:pt x="4280" y="6610"/>
                  <a:pt x="3894" y="6672"/>
                </a:cubicBezTo>
                <a:cubicBezTo>
                  <a:pt x="3579" y="6723"/>
                  <a:pt x="3274" y="6784"/>
                  <a:pt x="2977" y="6896"/>
                </a:cubicBezTo>
                <a:cubicBezTo>
                  <a:pt x="3336" y="6981"/>
                  <a:pt x="3696" y="6929"/>
                  <a:pt x="4068" y="6921"/>
                </a:cubicBezTo>
                <a:cubicBezTo>
                  <a:pt x="4324" y="6916"/>
                  <a:pt x="4568" y="6940"/>
                  <a:pt x="4812" y="6970"/>
                </a:cubicBezTo>
                <a:cubicBezTo>
                  <a:pt x="4820" y="6970"/>
                  <a:pt x="4829" y="6970"/>
                  <a:pt x="4837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2040" y="1660680"/>
            <a:ext cx="1492200" cy="839520"/>
          </a:xfrm>
          <a:custGeom>
            <a:avLst/>
            <a:gdLst/>
            <a:ahLst/>
            <a:rect l="l" t="t" r="r" b="b"/>
            <a:pathLst>
              <a:path w="4144" h="2332">
                <a:moveTo>
                  <a:pt x="7739" y="4787"/>
                </a:moveTo>
                <a:cubicBezTo>
                  <a:pt x="7776" y="4933"/>
                  <a:pt x="7740" y="5072"/>
                  <a:pt x="7665" y="5209"/>
                </a:cubicBezTo>
                <a:cubicBezTo>
                  <a:pt x="7648" y="5226"/>
                  <a:pt x="7632" y="5242"/>
                  <a:pt x="7615" y="5259"/>
                </a:cubicBezTo>
                <a:cubicBezTo>
                  <a:pt x="7716" y="5143"/>
                  <a:pt x="7811" y="5139"/>
                  <a:pt x="7962" y="5184"/>
                </a:cubicBezTo>
                <a:cubicBezTo>
                  <a:pt x="7979" y="5192"/>
                  <a:pt x="7995" y="5201"/>
                  <a:pt x="8012" y="5209"/>
                </a:cubicBezTo>
              </a:path>
              <a:path w="4144" h="2332">
                <a:moveTo>
                  <a:pt x="7962" y="4614"/>
                </a:moveTo>
                <a:cubicBezTo>
                  <a:pt x="7962" y="4864"/>
                  <a:pt x="8001" y="5109"/>
                  <a:pt x="8012" y="5358"/>
                </a:cubicBezTo>
                <a:cubicBezTo>
                  <a:pt x="8019" y="5522"/>
                  <a:pt x="7987" y="5668"/>
                  <a:pt x="7987" y="5829"/>
                </a:cubicBezTo>
              </a:path>
              <a:path w="4144" h="2332">
                <a:moveTo>
                  <a:pt x="7590" y="6052"/>
                </a:moveTo>
                <a:cubicBezTo>
                  <a:pt x="7813" y="6023"/>
                  <a:pt x="8036" y="5986"/>
                  <a:pt x="8260" y="5978"/>
                </a:cubicBezTo>
                <a:cubicBezTo>
                  <a:pt x="8277" y="5978"/>
                  <a:pt x="8293" y="5978"/>
                  <a:pt x="8310" y="5978"/>
                </a:cubicBezTo>
              </a:path>
              <a:path w="4144" h="2332">
                <a:moveTo>
                  <a:pt x="8210" y="6276"/>
                </a:moveTo>
                <a:cubicBezTo>
                  <a:pt x="8159" y="6285"/>
                  <a:pt x="7892" y="6269"/>
                  <a:pt x="7863" y="6300"/>
                </a:cubicBezTo>
                <a:cubicBezTo>
                  <a:pt x="7800" y="6367"/>
                  <a:pt x="7798" y="6559"/>
                  <a:pt x="7789" y="6648"/>
                </a:cubicBezTo>
                <a:cubicBezTo>
                  <a:pt x="7900" y="6569"/>
                  <a:pt x="8118" y="6373"/>
                  <a:pt x="8235" y="6573"/>
                </a:cubicBezTo>
                <a:cubicBezTo>
                  <a:pt x="8365" y="6794"/>
                  <a:pt x="7994" y="6937"/>
                  <a:pt x="7863" y="6945"/>
                </a:cubicBezTo>
                <a:cubicBezTo>
                  <a:pt x="7774" y="6923"/>
                  <a:pt x="7748" y="6923"/>
                  <a:pt x="7714" y="6871"/>
                </a:cubicBezTo>
              </a:path>
              <a:path w="4144" h="2332">
                <a:moveTo>
                  <a:pt x="8756" y="5904"/>
                </a:moveTo>
                <a:cubicBezTo>
                  <a:pt x="8881" y="5916"/>
                  <a:pt x="9000" y="5928"/>
                  <a:pt x="9128" y="5928"/>
                </a:cubicBezTo>
                <a:cubicBezTo>
                  <a:pt x="9211" y="5928"/>
                  <a:pt x="9227" y="5928"/>
                  <a:pt x="9277" y="5928"/>
                </a:cubicBezTo>
              </a:path>
              <a:path w="4144" h="2332">
                <a:moveTo>
                  <a:pt x="8930" y="5482"/>
                </a:moveTo>
                <a:lnTo>
                  <a:pt x="8930" y="5482"/>
                </a:lnTo>
              </a:path>
              <a:path w="4144" h="2332">
                <a:moveTo>
                  <a:pt x="9004" y="6499"/>
                </a:moveTo>
                <a:lnTo>
                  <a:pt x="9004" y="6499"/>
                </a:lnTo>
              </a:path>
              <a:path w="4144" h="2332">
                <a:moveTo>
                  <a:pt x="9947" y="4911"/>
                </a:moveTo>
                <a:cubicBezTo>
                  <a:pt x="10093" y="4839"/>
                  <a:pt x="10253" y="4808"/>
                  <a:pt x="10418" y="4787"/>
                </a:cubicBezTo>
                <a:cubicBezTo>
                  <a:pt x="10435" y="4787"/>
                  <a:pt x="10451" y="4787"/>
                  <a:pt x="10468" y="4787"/>
                </a:cubicBezTo>
                <a:cubicBezTo>
                  <a:pt x="10467" y="4990"/>
                  <a:pt x="10406" y="5164"/>
                  <a:pt x="10319" y="5358"/>
                </a:cubicBezTo>
                <a:cubicBezTo>
                  <a:pt x="10311" y="5374"/>
                  <a:pt x="10302" y="5391"/>
                  <a:pt x="10294" y="5407"/>
                </a:cubicBezTo>
              </a:path>
              <a:path w="4144" h="2332">
                <a:moveTo>
                  <a:pt x="9922" y="5705"/>
                </a:moveTo>
                <a:cubicBezTo>
                  <a:pt x="10141" y="5658"/>
                  <a:pt x="10376" y="5608"/>
                  <a:pt x="10592" y="5631"/>
                </a:cubicBezTo>
                <a:cubicBezTo>
                  <a:pt x="10600" y="5631"/>
                  <a:pt x="10608" y="5631"/>
                  <a:pt x="10616" y="5631"/>
                </a:cubicBezTo>
              </a:path>
              <a:path w="4144" h="2332">
                <a:moveTo>
                  <a:pt x="10393" y="6052"/>
                </a:moveTo>
                <a:cubicBezTo>
                  <a:pt x="10324" y="5984"/>
                  <a:pt x="10275" y="5940"/>
                  <a:pt x="10170" y="5953"/>
                </a:cubicBezTo>
                <a:cubicBezTo>
                  <a:pt x="10066" y="5966"/>
                  <a:pt x="9872" y="6044"/>
                  <a:pt x="9872" y="6176"/>
                </a:cubicBezTo>
                <a:cubicBezTo>
                  <a:pt x="9872" y="6313"/>
                  <a:pt x="10135" y="6342"/>
                  <a:pt x="10220" y="6424"/>
                </a:cubicBezTo>
                <a:cubicBezTo>
                  <a:pt x="10342" y="6542"/>
                  <a:pt x="10185" y="6610"/>
                  <a:pt x="10096" y="6648"/>
                </a:cubicBezTo>
                <a:cubicBezTo>
                  <a:pt x="9946" y="6545"/>
                  <a:pt x="9927" y="6469"/>
                  <a:pt x="10046" y="6300"/>
                </a:cubicBezTo>
                <a:cubicBezTo>
                  <a:pt x="10117" y="6199"/>
                  <a:pt x="10229" y="6148"/>
                  <a:pt x="10269" y="6028"/>
                </a:cubicBezTo>
              </a:path>
              <a:path w="4144" h="2332">
                <a:moveTo>
                  <a:pt x="11237" y="5680"/>
                </a:moveTo>
                <a:cubicBezTo>
                  <a:pt x="11408" y="5680"/>
                  <a:pt x="11566" y="5665"/>
                  <a:pt x="11733" y="5680"/>
                </a:cubicBezTo>
              </a:path>
              <a:path w="4144" h="2332">
                <a:moveTo>
                  <a:pt x="11187" y="6052"/>
                </a:moveTo>
                <a:cubicBezTo>
                  <a:pt x="11359" y="5980"/>
                  <a:pt x="11526" y="5944"/>
                  <a:pt x="11708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527120"/>
            <a:ext cx="2394000" cy="1071720"/>
          </a:xfrm>
          <a:custGeom>
            <a:avLst/>
            <a:gdLst/>
            <a:ahLst/>
            <a:rect l="l" t="t" r="r" b="b"/>
            <a:pathLst>
              <a:path w="6649" h="2977">
                <a:moveTo>
                  <a:pt x="13047" y="5035"/>
                </a:moveTo>
                <a:cubicBezTo>
                  <a:pt x="13033" y="5126"/>
                  <a:pt x="13007" y="5195"/>
                  <a:pt x="12973" y="5283"/>
                </a:cubicBezTo>
                <a:cubicBezTo>
                  <a:pt x="13141" y="5323"/>
                  <a:pt x="13218" y="5313"/>
                  <a:pt x="13395" y="5283"/>
                </a:cubicBezTo>
              </a:path>
              <a:path w="6649" h="2977">
                <a:moveTo>
                  <a:pt x="13494" y="4787"/>
                </a:moveTo>
                <a:cubicBezTo>
                  <a:pt x="13450" y="5051"/>
                  <a:pt x="13424" y="5313"/>
                  <a:pt x="13419" y="5581"/>
                </a:cubicBezTo>
                <a:cubicBezTo>
                  <a:pt x="13419" y="5614"/>
                  <a:pt x="13419" y="5647"/>
                  <a:pt x="13419" y="5680"/>
                </a:cubicBezTo>
              </a:path>
              <a:path w="6649" h="2977">
                <a:moveTo>
                  <a:pt x="12898" y="5779"/>
                </a:moveTo>
                <a:cubicBezTo>
                  <a:pt x="13229" y="5735"/>
                  <a:pt x="13579" y="5647"/>
                  <a:pt x="13915" y="5680"/>
                </a:cubicBezTo>
                <a:cubicBezTo>
                  <a:pt x="13923" y="5688"/>
                  <a:pt x="13932" y="5697"/>
                  <a:pt x="13940" y="5705"/>
                </a:cubicBezTo>
              </a:path>
              <a:path w="6649" h="2977">
                <a:moveTo>
                  <a:pt x="13568" y="6052"/>
                </a:moveTo>
                <a:cubicBezTo>
                  <a:pt x="13462" y="6097"/>
                  <a:pt x="13186" y="6119"/>
                  <a:pt x="13122" y="6201"/>
                </a:cubicBezTo>
                <a:cubicBezTo>
                  <a:pt x="13064" y="6276"/>
                  <a:pt x="13056" y="6361"/>
                  <a:pt x="13047" y="6449"/>
                </a:cubicBezTo>
                <a:cubicBezTo>
                  <a:pt x="13226" y="6417"/>
                  <a:pt x="13384" y="6346"/>
                  <a:pt x="13568" y="6325"/>
                </a:cubicBezTo>
                <a:cubicBezTo>
                  <a:pt x="13716" y="6536"/>
                  <a:pt x="13694" y="6738"/>
                  <a:pt x="13370" y="6796"/>
                </a:cubicBezTo>
                <a:cubicBezTo>
                  <a:pt x="13157" y="6796"/>
                  <a:pt x="13104" y="6814"/>
                  <a:pt x="12998" y="6722"/>
                </a:cubicBezTo>
              </a:path>
              <a:path w="6649" h="2977">
                <a:moveTo>
                  <a:pt x="14387" y="5631"/>
                </a:moveTo>
                <a:cubicBezTo>
                  <a:pt x="14564" y="5864"/>
                  <a:pt x="14791" y="6102"/>
                  <a:pt x="14908" y="6375"/>
                </a:cubicBezTo>
                <a:cubicBezTo>
                  <a:pt x="14908" y="6391"/>
                  <a:pt x="14908" y="6408"/>
                  <a:pt x="14908" y="6424"/>
                </a:cubicBezTo>
              </a:path>
              <a:path w="6649" h="2977">
                <a:moveTo>
                  <a:pt x="14784" y="5581"/>
                </a:moveTo>
                <a:cubicBezTo>
                  <a:pt x="14644" y="5834"/>
                  <a:pt x="14548" y="6090"/>
                  <a:pt x="14486" y="6375"/>
                </a:cubicBezTo>
                <a:cubicBezTo>
                  <a:pt x="14486" y="6391"/>
                  <a:pt x="14486" y="6408"/>
                  <a:pt x="14486" y="6424"/>
                </a:cubicBezTo>
              </a:path>
              <a:path w="6649" h="2977">
                <a:moveTo>
                  <a:pt x="15825" y="4787"/>
                </a:moveTo>
                <a:cubicBezTo>
                  <a:pt x="15662" y="4869"/>
                  <a:pt x="15595" y="4887"/>
                  <a:pt x="15503" y="5035"/>
                </a:cubicBezTo>
                <a:cubicBezTo>
                  <a:pt x="15629" y="5113"/>
                  <a:pt x="15983" y="5268"/>
                  <a:pt x="15751" y="5457"/>
                </a:cubicBezTo>
                <a:cubicBezTo>
                  <a:pt x="15701" y="5474"/>
                  <a:pt x="15652" y="5490"/>
                  <a:pt x="15602" y="5507"/>
                </a:cubicBezTo>
                <a:cubicBezTo>
                  <a:pt x="15467" y="5266"/>
                  <a:pt x="15690" y="5160"/>
                  <a:pt x="15801" y="4887"/>
                </a:cubicBezTo>
                <a:cubicBezTo>
                  <a:pt x="15801" y="4819"/>
                  <a:pt x="15784" y="4798"/>
                  <a:pt x="15701" y="4812"/>
                </a:cubicBezTo>
              </a:path>
              <a:path w="6649" h="2977">
                <a:moveTo>
                  <a:pt x="15280" y="5779"/>
                </a:moveTo>
                <a:cubicBezTo>
                  <a:pt x="15539" y="5722"/>
                  <a:pt x="15783" y="5657"/>
                  <a:pt x="16049" y="5631"/>
                </a:cubicBezTo>
                <a:cubicBezTo>
                  <a:pt x="16065" y="5631"/>
                  <a:pt x="16082" y="5631"/>
                  <a:pt x="16098" y="5631"/>
                </a:cubicBezTo>
              </a:path>
              <a:path w="6649" h="2977">
                <a:moveTo>
                  <a:pt x="15304" y="5928"/>
                </a:moveTo>
                <a:cubicBezTo>
                  <a:pt x="15487" y="5921"/>
                  <a:pt x="15667" y="5904"/>
                  <a:pt x="15850" y="5904"/>
                </a:cubicBezTo>
                <a:cubicBezTo>
                  <a:pt x="15754" y="6107"/>
                  <a:pt x="15688" y="6317"/>
                  <a:pt x="15602" y="6524"/>
                </a:cubicBezTo>
                <a:cubicBezTo>
                  <a:pt x="15594" y="6540"/>
                  <a:pt x="15585" y="6557"/>
                  <a:pt x="15577" y="6573"/>
                </a:cubicBezTo>
              </a:path>
              <a:path w="6649" h="2977">
                <a:moveTo>
                  <a:pt x="16346" y="5631"/>
                </a:moveTo>
                <a:cubicBezTo>
                  <a:pt x="16473" y="5631"/>
                  <a:pt x="16592" y="5611"/>
                  <a:pt x="16718" y="5606"/>
                </a:cubicBezTo>
                <a:cubicBezTo>
                  <a:pt x="16735" y="5606"/>
                  <a:pt x="16751" y="5606"/>
                  <a:pt x="16768" y="5606"/>
                </a:cubicBezTo>
              </a:path>
              <a:path w="6649" h="2977">
                <a:moveTo>
                  <a:pt x="16396" y="5879"/>
                </a:moveTo>
                <a:cubicBezTo>
                  <a:pt x="16503" y="5843"/>
                  <a:pt x="16652" y="5756"/>
                  <a:pt x="16768" y="5779"/>
                </a:cubicBezTo>
                <a:cubicBezTo>
                  <a:pt x="16785" y="5787"/>
                  <a:pt x="16801" y="5796"/>
                  <a:pt x="16818" y="5804"/>
                </a:cubicBezTo>
              </a:path>
              <a:path w="6649" h="2977">
                <a:moveTo>
                  <a:pt x="17760" y="5804"/>
                </a:moveTo>
                <a:cubicBezTo>
                  <a:pt x="17934" y="5804"/>
                  <a:pt x="18106" y="5827"/>
                  <a:pt x="18281" y="5829"/>
                </a:cubicBezTo>
                <a:cubicBezTo>
                  <a:pt x="18595" y="5832"/>
                  <a:pt x="18910" y="5829"/>
                  <a:pt x="19224" y="5829"/>
                </a:cubicBezTo>
              </a:path>
              <a:path w="6649" h="2977">
                <a:moveTo>
                  <a:pt x="17959" y="6375"/>
                </a:moveTo>
                <a:cubicBezTo>
                  <a:pt x="17988" y="6301"/>
                  <a:pt x="18118" y="6187"/>
                  <a:pt x="18207" y="6276"/>
                </a:cubicBezTo>
                <a:cubicBezTo>
                  <a:pt x="18267" y="6336"/>
                  <a:pt x="18138" y="6460"/>
                  <a:pt x="18107" y="6499"/>
                </a:cubicBezTo>
                <a:cubicBezTo>
                  <a:pt x="18142" y="6464"/>
                  <a:pt x="18164" y="6460"/>
                  <a:pt x="18207" y="6499"/>
                </a:cubicBezTo>
                <a:cubicBezTo>
                  <a:pt x="18217" y="6642"/>
                  <a:pt x="18161" y="6747"/>
                  <a:pt x="17983" y="6747"/>
                </a:cubicBezTo>
                <a:cubicBezTo>
                  <a:pt x="17885" y="6722"/>
                  <a:pt x="17852" y="6715"/>
                  <a:pt x="17884" y="6623"/>
                </a:cubicBezTo>
              </a:path>
              <a:path w="6649" h="2977">
                <a:moveTo>
                  <a:pt x="18628" y="6052"/>
                </a:moveTo>
                <a:cubicBezTo>
                  <a:pt x="18543" y="6102"/>
                  <a:pt x="18402" y="6065"/>
                  <a:pt x="18355" y="6152"/>
                </a:cubicBezTo>
                <a:cubicBezTo>
                  <a:pt x="18334" y="6260"/>
                  <a:pt x="18331" y="6286"/>
                  <a:pt x="18306" y="6350"/>
                </a:cubicBezTo>
                <a:cubicBezTo>
                  <a:pt x="18418" y="6363"/>
                  <a:pt x="18547" y="6219"/>
                  <a:pt x="18678" y="6276"/>
                </a:cubicBezTo>
                <a:cubicBezTo>
                  <a:pt x="18885" y="6365"/>
                  <a:pt x="18623" y="6577"/>
                  <a:pt x="18554" y="6623"/>
                </a:cubicBezTo>
              </a:path>
              <a:path w="6649" h="2977">
                <a:moveTo>
                  <a:pt x="17934" y="4986"/>
                </a:moveTo>
                <a:cubicBezTo>
                  <a:pt x="18018" y="4937"/>
                  <a:pt x="18041" y="4947"/>
                  <a:pt x="18132" y="4961"/>
                </a:cubicBezTo>
                <a:cubicBezTo>
                  <a:pt x="18157" y="5122"/>
                  <a:pt x="18122" y="5162"/>
                  <a:pt x="17983" y="5259"/>
                </a:cubicBezTo>
                <a:cubicBezTo>
                  <a:pt x="18051" y="5181"/>
                  <a:pt x="18245" y="5072"/>
                  <a:pt x="18207" y="5283"/>
                </a:cubicBezTo>
                <a:cubicBezTo>
                  <a:pt x="18168" y="5496"/>
                  <a:pt x="17953" y="5514"/>
                  <a:pt x="17785" y="5531"/>
                </a:cubicBezTo>
              </a:path>
              <a:path w="6649" h="2977">
                <a:moveTo>
                  <a:pt x="18479" y="4837"/>
                </a:moveTo>
                <a:cubicBezTo>
                  <a:pt x="18443" y="4955"/>
                  <a:pt x="18506" y="4823"/>
                  <a:pt x="18554" y="4787"/>
                </a:cubicBezTo>
                <a:cubicBezTo>
                  <a:pt x="18705" y="4981"/>
                  <a:pt x="18705" y="5106"/>
                  <a:pt x="18504" y="5283"/>
                </a:cubicBezTo>
                <a:cubicBezTo>
                  <a:pt x="18406" y="5342"/>
                  <a:pt x="18391" y="5354"/>
                  <a:pt x="18331" y="5383"/>
                </a:cubicBezTo>
                <a:cubicBezTo>
                  <a:pt x="18349" y="5274"/>
                  <a:pt x="18424" y="5118"/>
                  <a:pt x="18579" y="5184"/>
                </a:cubicBezTo>
                <a:cubicBezTo>
                  <a:pt x="18689" y="5230"/>
                  <a:pt x="18691" y="5341"/>
                  <a:pt x="18703" y="5432"/>
                </a:cubicBezTo>
              </a:path>
              <a:path w="6649" h="2977">
                <a:moveTo>
                  <a:pt x="17438" y="4862"/>
                </a:moveTo>
                <a:cubicBezTo>
                  <a:pt x="17384" y="4981"/>
                  <a:pt x="17342" y="5095"/>
                  <a:pt x="17314" y="5234"/>
                </a:cubicBezTo>
                <a:cubicBezTo>
                  <a:pt x="17272" y="5438"/>
                  <a:pt x="17271" y="5671"/>
                  <a:pt x="17289" y="5879"/>
                </a:cubicBezTo>
                <a:cubicBezTo>
                  <a:pt x="17304" y="6050"/>
                  <a:pt x="17336" y="6227"/>
                  <a:pt x="17314" y="6400"/>
                </a:cubicBezTo>
                <a:cubicBezTo>
                  <a:pt x="17297" y="6534"/>
                  <a:pt x="17324" y="6574"/>
                  <a:pt x="17338" y="6697"/>
                </a:cubicBezTo>
                <a:cubicBezTo>
                  <a:pt x="17347" y="6776"/>
                  <a:pt x="17330" y="6921"/>
                  <a:pt x="17363" y="6995"/>
                </a:cubicBezTo>
                <a:cubicBezTo>
                  <a:pt x="17411" y="7103"/>
                  <a:pt x="17502" y="7142"/>
                  <a:pt x="17611" y="7169"/>
                </a:cubicBezTo>
                <a:cubicBezTo>
                  <a:pt x="17756" y="7205"/>
                  <a:pt x="17915" y="7217"/>
                  <a:pt x="18058" y="7193"/>
                </a:cubicBezTo>
                <a:cubicBezTo>
                  <a:pt x="18211" y="7167"/>
                  <a:pt x="18353" y="7157"/>
                  <a:pt x="18504" y="7119"/>
                </a:cubicBezTo>
                <a:cubicBezTo>
                  <a:pt x="18655" y="7081"/>
                  <a:pt x="18798" y="7062"/>
                  <a:pt x="18951" y="7020"/>
                </a:cubicBezTo>
                <a:cubicBezTo>
                  <a:pt x="19079" y="6985"/>
                  <a:pt x="19218" y="6932"/>
                  <a:pt x="19323" y="6846"/>
                </a:cubicBezTo>
                <a:cubicBezTo>
                  <a:pt x="19425" y="6763"/>
                  <a:pt x="19458" y="6668"/>
                  <a:pt x="19496" y="6548"/>
                </a:cubicBezTo>
                <a:cubicBezTo>
                  <a:pt x="19531" y="6438"/>
                  <a:pt x="19559" y="6267"/>
                  <a:pt x="19546" y="6152"/>
                </a:cubicBezTo>
                <a:cubicBezTo>
                  <a:pt x="19529" y="6001"/>
                  <a:pt x="19521" y="5859"/>
                  <a:pt x="19521" y="5705"/>
                </a:cubicBezTo>
                <a:cubicBezTo>
                  <a:pt x="19521" y="5529"/>
                  <a:pt x="19500" y="5359"/>
                  <a:pt x="19496" y="5184"/>
                </a:cubicBezTo>
                <a:cubicBezTo>
                  <a:pt x="19492" y="5041"/>
                  <a:pt x="19482" y="4926"/>
                  <a:pt x="19447" y="4787"/>
                </a:cubicBezTo>
                <a:cubicBezTo>
                  <a:pt x="19426" y="4703"/>
                  <a:pt x="19398" y="4587"/>
                  <a:pt x="19348" y="4514"/>
                </a:cubicBezTo>
                <a:cubicBezTo>
                  <a:pt x="19293" y="4433"/>
                  <a:pt x="19192" y="4360"/>
                  <a:pt x="19100" y="4316"/>
                </a:cubicBezTo>
                <a:cubicBezTo>
                  <a:pt x="18986" y="4261"/>
                  <a:pt x="18827" y="4251"/>
                  <a:pt x="18703" y="4242"/>
                </a:cubicBezTo>
                <a:cubicBezTo>
                  <a:pt x="18563" y="4232"/>
                  <a:pt x="18416" y="4283"/>
                  <a:pt x="18281" y="4316"/>
                </a:cubicBezTo>
                <a:cubicBezTo>
                  <a:pt x="18139" y="4351"/>
                  <a:pt x="18038" y="4399"/>
                  <a:pt x="17909" y="4465"/>
                </a:cubicBezTo>
                <a:cubicBezTo>
                  <a:pt x="17792" y="4525"/>
                  <a:pt x="17745" y="4572"/>
                  <a:pt x="17661" y="4663"/>
                </a:cubicBezTo>
                <a:cubicBezTo>
                  <a:pt x="17601" y="4728"/>
                  <a:pt x="17526" y="4837"/>
                  <a:pt x="17462" y="4887"/>
                </a:cubicBezTo>
                <a:cubicBezTo>
                  <a:pt x="17370" y="4959"/>
                  <a:pt x="17342" y="4968"/>
                  <a:pt x="17289" y="5085"/>
                </a:cubicBezTo>
                <a:cubicBezTo>
                  <a:pt x="17265" y="5133"/>
                  <a:pt x="17257" y="5147"/>
                  <a:pt x="17264" y="518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7200" y="3367080"/>
            <a:ext cx="2160720" cy="1160640"/>
          </a:xfrm>
          <a:custGeom>
            <a:avLst/>
            <a:gdLst/>
            <a:ahLst/>
            <a:rect l="l" t="t" r="r" b="b"/>
            <a:pathLst>
              <a:path w="6003" h="3226">
                <a:moveTo>
                  <a:pt x="7020" y="10716"/>
                </a:moveTo>
                <a:cubicBezTo>
                  <a:pt x="7139" y="10739"/>
                  <a:pt x="7247" y="10758"/>
                  <a:pt x="7367" y="10765"/>
                </a:cubicBezTo>
              </a:path>
              <a:path w="6003" h="3226">
                <a:moveTo>
                  <a:pt x="7069" y="10964"/>
                </a:moveTo>
                <a:cubicBezTo>
                  <a:pt x="7212" y="10956"/>
                  <a:pt x="7349" y="10937"/>
                  <a:pt x="7491" y="10914"/>
                </a:cubicBezTo>
              </a:path>
              <a:path w="6003" h="3226">
                <a:moveTo>
                  <a:pt x="8558" y="10220"/>
                </a:moveTo>
                <a:cubicBezTo>
                  <a:pt x="8579" y="10411"/>
                  <a:pt x="8600" y="10600"/>
                  <a:pt x="8632" y="10790"/>
                </a:cubicBezTo>
              </a:path>
              <a:path w="6003" h="3226">
                <a:moveTo>
                  <a:pt x="8830" y="10294"/>
                </a:moveTo>
                <a:cubicBezTo>
                  <a:pt x="8791" y="10478"/>
                  <a:pt x="9014" y="10388"/>
                  <a:pt x="9128" y="10542"/>
                </a:cubicBezTo>
                <a:cubicBezTo>
                  <a:pt x="9288" y="10757"/>
                  <a:pt x="8890" y="10701"/>
                  <a:pt x="8830" y="10691"/>
                </a:cubicBezTo>
              </a:path>
              <a:path w="6003" h="3226">
                <a:moveTo>
                  <a:pt x="8830" y="10269"/>
                </a:moveTo>
                <a:cubicBezTo>
                  <a:pt x="8994" y="10221"/>
                  <a:pt x="9178" y="10140"/>
                  <a:pt x="9351" y="10145"/>
                </a:cubicBezTo>
                <a:cubicBezTo>
                  <a:pt x="9376" y="10153"/>
                  <a:pt x="9401" y="10162"/>
                  <a:pt x="9426" y="10170"/>
                </a:cubicBezTo>
              </a:path>
              <a:path w="6003" h="3226">
                <a:moveTo>
                  <a:pt x="8409" y="11013"/>
                </a:moveTo>
                <a:cubicBezTo>
                  <a:pt x="8734" y="10928"/>
                  <a:pt x="9017" y="10869"/>
                  <a:pt x="9351" y="10889"/>
                </a:cubicBezTo>
                <a:cubicBezTo>
                  <a:pt x="9359" y="10889"/>
                  <a:pt x="9368" y="10889"/>
                  <a:pt x="9376" y="10889"/>
                </a:cubicBezTo>
              </a:path>
              <a:path w="6003" h="3226">
                <a:moveTo>
                  <a:pt x="8781" y="11162"/>
                </a:moveTo>
                <a:cubicBezTo>
                  <a:pt x="8795" y="11378"/>
                  <a:pt x="8770" y="11596"/>
                  <a:pt x="8781" y="11807"/>
                </a:cubicBezTo>
                <a:cubicBezTo>
                  <a:pt x="8789" y="11824"/>
                  <a:pt x="8798" y="11840"/>
                  <a:pt x="8806" y="11857"/>
                </a:cubicBezTo>
              </a:path>
              <a:path w="6003" h="3226">
                <a:moveTo>
                  <a:pt x="9723" y="10864"/>
                </a:moveTo>
                <a:cubicBezTo>
                  <a:pt x="9903" y="10980"/>
                  <a:pt x="10045" y="11111"/>
                  <a:pt x="10170" y="11286"/>
                </a:cubicBezTo>
                <a:cubicBezTo>
                  <a:pt x="10208" y="11343"/>
                  <a:pt x="10224" y="11346"/>
                  <a:pt x="10220" y="11385"/>
                </a:cubicBezTo>
              </a:path>
              <a:path w="6003" h="3226">
                <a:moveTo>
                  <a:pt x="10096" y="10765"/>
                </a:moveTo>
                <a:cubicBezTo>
                  <a:pt x="9987" y="10981"/>
                  <a:pt x="9905" y="11214"/>
                  <a:pt x="9798" y="11435"/>
                </a:cubicBezTo>
                <a:cubicBezTo>
                  <a:pt x="9790" y="11452"/>
                  <a:pt x="9781" y="11468"/>
                  <a:pt x="9773" y="11485"/>
                </a:cubicBezTo>
              </a:path>
              <a:path w="6003" h="3226">
                <a:moveTo>
                  <a:pt x="10790" y="10319"/>
                </a:moveTo>
                <a:cubicBezTo>
                  <a:pt x="10882" y="10149"/>
                  <a:pt x="10949" y="10152"/>
                  <a:pt x="11112" y="10220"/>
                </a:cubicBezTo>
                <a:cubicBezTo>
                  <a:pt x="11089" y="10469"/>
                  <a:pt x="11019" y="10618"/>
                  <a:pt x="10765" y="10716"/>
                </a:cubicBezTo>
                <a:cubicBezTo>
                  <a:pt x="10697" y="10716"/>
                  <a:pt x="10675" y="10721"/>
                  <a:pt x="10666" y="10666"/>
                </a:cubicBezTo>
                <a:cubicBezTo>
                  <a:pt x="10731" y="10498"/>
                  <a:pt x="10812" y="10502"/>
                  <a:pt x="10988" y="10567"/>
                </a:cubicBezTo>
                <a:cubicBezTo>
                  <a:pt x="11089" y="10604"/>
                  <a:pt x="11114" y="10611"/>
                  <a:pt x="11137" y="10691"/>
                </a:cubicBezTo>
              </a:path>
              <a:path w="6003" h="3226">
                <a:moveTo>
                  <a:pt x="11633" y="10071"/>
                </a:moveTo>
                <a:cubicBezTo>
                  <a:pt x="11598" y="10082"/>
                  <a:pt x="11341" y="10132"/>
                  <a:pt x="11336" y="10145"/>
                </a:cubicBezTo>
                <a:cubicBezTo>
                  <a:pt x="11314" y="10277"/>
                  <a:pt x="11306" y="10309"/>
                  <a:pt x="11311" y="10393"/>
                </a:cubicBezTo>
                <a:cubicBezTo>
                  <a:pt x="11465" y="10268"/>
                  <a:pt x="11592" y="10163"/>
                  <a:pt x="11782" y="10294"/>
                </a:cubicBezTo>
                <a:cubicBezTo>
                  <a:pt x="11807" y="10327"/>
                  <a:pt x="11832" y="10360"/>
                  <a:pt x="11857" y="10393"/>
                </a:cubicBezTo>
                <a:cubicBezTo>
                  <a:pt x="11715" y="10617"/>
                  <a:pt x="11628" y="10640"/>
                  <a:pt x="11361" y="10616"/>
                </a:cubicBezTo>
              </a:path>
              <a:path w="6003" h="3226">
                <a:moveTo>
                  <a:pt x="10864" y="10790"/>
                </a:moveTo>
                <a:cubicBezTo>
                  <a:pt x="11216" y="10751"/>
                  <a:pt x="11576" y="10698"/>
                  <a:pt x="11931" y="10716"/>
                </a:cubicBezTo>
                <a:cubicBezTo>
                  <a:pt x="12042" y="10734"/>
                  <a:pt x="12064" y="10715"/>
                  <a:pt x="12105" y="10765"/>
                </a:cubicBezTo>
              </a:path>
              <a:path w="6003" h="3226">
                <a:moveTo>
                  <a:pt x="11088" y="11063"/>
                </a:moveTo>
                <a:cubicBezTo>
                  <a:pt x="11222" y="11063"/>
                  <a:pt x="11253" y="10986"/>
                  <a:pt x="11385" y="11013"/>
                </a:cubicBezTo>
                <a:cubicBezTo>
                  <a:pt x="11396" y="11294"/>
                  <a:pt x="11362" y="11580"/>
                  <a:pt x="11038" y="11683"/>
                </a:cubicBezTo>
                <a:cubicBezTo>
                  <a:pt x="11005" y="11675"/>
                  <a:pt x="10972" y="11666"/>
                  <a:pt x="10939" y="11658"/>
                </a:cubicBezTo>
                <a:cubicBezTo>
                  <a:pt x="10983" y="11481"/>
                  <a:pt x="11138" y="11337"/>
                  <a:pt x="11361" y="11410"/>
                </a:cubicBezTo>
                <a:cubicBezTo>
                  <a:pt x="11423" y="11473"/>
                  <a:pt x="11440" y="11483"/>
                  <a:pt x="11460" y="11534"/>
                </a:cubicBezTo>
              </a:path>
              <a:path w="6003" h="3226">
                <a:moveTo>
                  <a:pt x="11733" y="11013"/>
                </a:moveTo>
                <a:cubicBezTo>
                  <a:pt x="11769" y="11188"/>
                  <a:pt x="11757" y="11376"/>
                  <a:pt x="11757" y="11559"/>
                </a:cubicBezTo>
                <a:cubicBezTo>
                  <a:pt x="11757" y="11576"/>
                  <a:pt x="11757" y="11592"/>
                  <a:pt x="11757" y="11609"/>
                </a:cubicBezTo>
              </a:path>
              <a:path w="6003" h="3226">
                <a:moveTo>
                  <a:pt x="12626" y="10840"/>
                </a:moveTo>
                <a:cubicBezTo>
                  <a:pt x="12759" y="10851"/>
                  <a:pt x="12887" y="10864"/>
                  <a:pt x="13022" y="10864"/>
                </a:cubicBezTo>
              </a:path>
              <a:path w="6003" h="3226">
                <a:moveTo>
                  <a:pt x="12675" y="11013"/>
                </a:moveTo>
                <a:cubicBezTo>
                  <a:pt x="12795" y="11006"/>
                  <a:pt x="12904" y="10990"/>
                  <a:pt x="13022" y="10964"/>
                </a:cubicBezTo>
              </a:path>
              <a:path w="6003" h="3226">
                <a:moveTo>
                  <a:pt x="8334" y="10096"/>
                </a:moveTo>
                <a:cubicBezTo>
                  <a:pt x="8561" y="10221"/>
                  <a:pt x="8730" y="10466"/>
                  <a:pt x="8930" y="10641"/>
                </a:cubicBezTo>
                <a:cubicBezTo>
                  <a:pt x="9027" y="10718"/>
                  <a:pt x="9038" y="10736"/>
                  <a:pt x="9103" y="10765"/>
                </a:cubicBezTo>
              </a:path>
              <a:path w="6003" h="3226">
                <a:moveTo>
                  <a:pt x="8731" y="9351"/>
                </a:moveTo>
                <a:cubicBezTo>
                  <a:pt x="8635" y="9351"/>
                  <a:pt x="8551" y="9349"/>
                  <a:pt x="8458" y="9376"/>
                </a:cubicBezTo>
                <a:cubicBezTo>
                  <a:pt x="8321" y="9415"/>
                  <a:pt x="8395" y="9508"/>
                  <a:pt x="8434" y="9624"/>
                </a:cubicBezTo>
                <a:cubicBezTo>
                  <a:pt x="8599" y="9524"/>
                  <a:pt x="8619" y="9496"/>
                  <a:pt x="8781" y="9599"/>
                </a:cubicBezTo>
                <a:cubicBezTo>
                  <a:pt x="8682" y="9856"/>
                  <a:pt x="8663" y="9911"/>
                  <a:pt x="8384" y="9922"/>
                </a:cubicBezTo>
                <a:cubicBezTo>
                  <a:pt x="8376" y="9922"/>
                  <a:pt x="8367" y="9922"/>
                  <a:pt x="8359" y="9922"/>
                </a:cubicBezTo>
              </a:path>
              <a:path w="6003" h="3226">
                <a:moveTo>
                  <a:pt x="10815" y="11311"/>
                </a:moveTo>
                <a:cubicBezTo>
                  <a:pt x="11091" y="11329"/>
                  <a:pt x="11464" y="11528"/>
                  <a:pt x="11733" y="11658"/>
                </a:cubicBezTo>
                <a:cubicBezTo>
                  <a:pt x="11865" y="11733"/>
                  <a:pt x="11901" y="11723"/>
                  <a:pt x="11931" y="11807"/>
                </a:cubicBezTo>
              </a:path>
              <a:path w="6003" h="3226">
                <a:moveTo>
                  <a:pt x="11286" y="11906"/>
                </a:moveTo>
                <a:cubicBezTo>
                  <a:pt x="11374" y="11859"/>
                  <a:pt x="11426" y="11857"/>
                  <a:pt x="11534" y="11857"/>
                </a:cubicBezTo>
                <a:cubicBezTo>
                  <a:pt x="11504" y="12099"/>
                  <a:pt x="11445" y="12326"/>
                  <a:pt x="11435" y="1257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0240" y="3340080"/>
            <a:ext cx="1079640" cy="1893960"/>
          </a:xfrm>
          <a:custGeom>
            <a:avLst/>
            <a:gdLst/>
            <a:ahLst/>
            <a:rect l="l" t="t" r="r" b="b"/>
            <a:pathLst>
              <a:path w="3002" h="5260">
                <a:moveTo>
                  <a:pt x="19298" y="10542"/>
                </a:moveTo>
                <a:cubicBezTo>
                  <a:pt x="19335" y="10746"/>
                  <a:pt x="19368" y="10945"/>
                  <a:pt x="19348" y="11162"/>
                </a:cubicBezTo>
                <a:cubicBezTo>
                  <a:pt x="19340" y="11195"/>
                  <a:pt x="19331" y="11228"/>
                  <a:pt x="19323" y="11261"/>
                </a:cubicBezTo>
              </a:path>
              <a:path w="3002" h="5260">
                <a:moveTo>
                  <a:pt x="19745" y="10616"/>
                </a:moveTo>
                <a:cubicBezTo>
                  <a:pt x="19966" y="10782"/>
                  <a:pt x="20115" y="10938"/>
                  <a:pt x="19794" y="11137"/>
                </a:cubicBezTo>
                <a:cubicBezTo>
                  <a:pt x="19666" y="11180"/>
                  <a:pt x="19629" y="11215"/>
                  <a:pt x="19596" y="11112"/>
                </a:cubicBezTo>
                <a:cubicBezTo>
                  <a:pt x="19697" y="10983"/>
                  <a:pt x="19808" y="10895"/>
                  <a:pt x="19968" y="11038"/>
                </a:cubicBezTo>
                <a:cubicBezTo>
                  <a:pt x="19992" y="11086"/>
                  <a:pt x="20000" y="11100"/>
                  <a:pt x="19993" y="11137"/>
                </a:cubicBezTo>
              </a:path>
              <a:path w="3002" h="5260">
                <a:moveTo>
                  <a:pt x="20613" y="10443"/>
                </a:moveTo>
                <a:cubicBezTo>
                  <a:pt x="20510" y="10474"/>
                  <a:pt x="20398" y="10475"/>
                  <a:pt x="20290" y="10492"/>
                </a:cubicBezTo>
                <a:cubicBezTo>
                  <a:pt x="20233" y="10501"/>
                  <a:pt x="20224" y="10661"/>
                  <a:pt x="20216" y="10716"/>
                </a:cubicBezTo>
                <a:cubicBezTo>
                  <a:pt x="20355" y="10669"/>
                  <a:pt x="20514" y="10547"/>
                  <a:pt x="20662" y="10666"/>
                </a:cubicBezTo>
                <a:cubicBezTo>
                  <a:pt x="20910" y="10866"/>
                  <a:pt x="20432" y="10992"/>
                  <a:pt x="20340" y="11013"/>
                </a:cubicBezTo>
              </a:path>
              <a:path w="3002" h="5260">
                <a:moveTo>
                  <a:pt x="18926" y="11311"/>
                </a:moveTo>
                <a:cubicBezTo>
                  <a:pt x="18939" y="11225"/>
                  <a:pt x="18922" y="10933"/>
                  <a:pt x="18901" y="10765"/>
                </a:cubicBezTo>
                <a:cubicBezTo>
                  <a:pt x="18880" y="10600"/>
                  <a:pt x="18875" y="10450"/>
                  <a:pt x="18827" y="10294"/>
                </a:cubicBezTo>
                <a:cubicBezTo>
                  <a:pt x="18992" y="10327"/>
                  <a:pt x="19121" y="10299"/>
                  <a:pt x="19298" y="10294"/>
                </a:cubicBezTo>
                <a:cubicBezTo>
                  <a:pt x="19777" y="10280"/>
                  <a:pt x="20259" y="10293"/>
                  <a:pt x="20737" y="10269"/>
                </a:cubicBezTo>
                <a:cubicBezTo>
                  <a:pt x="20927" y="10248"/>
                  <a:pt x="20968" y="10239"/>
                  <a:pt x="21084" y="10244"/>
                </a:cubicBezTo>
              </a:path>
              <a:path w="3002" h="5260">
                <a:moveTo>
                  <a:pt x="18107" y="10567"/>
                </a:moveTo>
                <a:cubicBezTo>
                  <a:pt x="18107" y="10600"/>
                  <a:pt x="18107" y="10633"/>
                  <a:pt x="18107" y="10666"/>
                </a:cubicBezTo>
                <a:cubicBezTo>
                  <a:pt x="18084" y="10510"/>
                  <a:pt x="18095" y="10532"/>
                  <a:pt x="18256" y="10492"/>
                </a:cubicBezTo>
                <a:cubicBezTo>
                  <a:pt x="18335" y="10473"/>
                  <a:pt x="18405" y="10440"/>
                  <a:pt x="18479" y="10418"/>
                </a:cubicBezTo>
                <a:cubicBezTo>
                  <a:pt x="18501" y="10730"/>
                  <a:pt x="18430" y="10960"/>
                  <a:pt x="18355" y="11261"/>
                </a:cubicBezTo>
                <a:cubicBezTo>
                  <a:pt x="18355" y="11269"/>
                  <a:pt x="18355" y="11278"/>
                  <a:pt x="18355" y="11286"/>
                </a:cubicBezTo>
              </a:path>
              <a:path w="3002" h="5260">
                <a:moveTo>
                  <a:pt x="19819" y="9525"/>
                </a:moveTo>
                <a:cubicBezTo>
                  <a:pt x="19819" y="9467"/>
                  <a:pt x="19819" y="9442"/>
                  <a:pt x="19819" y="9401"/>
                </a:cubicBezTo>
                <a:cubicBezTo>
                  <a:pt x="19819" y="9549"/>
                  <a:pt x="19823" y="9679"/>
                  <a:pt x="19844" y="9823"/>
                </a:cubicBezTo>
              </a:path>
              <a:path w="3002" h="5260">
                <a:moveTo>
                  <a:pt x="19745" y="11410"/>
                </a:moveTo>
                <a:cubicBezTo>
                  <a:pt x="19813" y="11405"/>
                  <a:pt x="19876" y="11395"/>
                  <a:pt x="19943" y="11385"/>
                </a:cubicBezTo>
                <a:cubicBezTo>
                  <a:pt x="19913" y="11531"/>
                  <a:pt x="19879" y="11647"/>
                  <a:pt x="19819" y="11782"/>
                </a:cubicBezTo>
              </a:path>
              <a:path w="3002" h="5260">
                <a:moveTo>
                  <a:pt x="18976" y="11584"/>
                </a:moveTo>
                <a:cubicBezTo>
                  <a:pt x="19059" y="11554"/>
                  <a:pt x="19139" y="11525"/>
                  <a:pt x="19224" y="11509"/>
                </a:cubicBezTo>
              </a:path>
              <a:path w="3002" h="5260">
                <a:moveTo>
                  <a:pt x="19050" y="11931"/>
                </a:moveTo>
                <a:cubicBezTo>
                  <a:pt x="19328" y="11922"/>
                  <a:pt x="19592" y="11912"/>
                  <a:pt x="19869" y="11931"/>
                </a:cubicBezTo>
                <a:cubicBezTo>
                  <a:pt x="19894" y="11931"/>
                  <a:pt x="19918" y="11931"/>
                  <a:pt x="19943" y="11931"/>
                </a:cubicBezTo>
              </a:path>
              <a:path w="3002" h="5260">
                <a:moveTo>
                  <a:pt x="19819" y="12129"/>
                </a:moveTo>
                <a:cubicBezTo>
                  <a:pt x="19718" y="12129"/>
                  <a:pt x="19628" y="12121"/>
                  <a:pt x="19571" y="12229"/>
                </a:cubicBezTo>
                <a:cubicBezTo>
                  <a:pt x="19550" y="12311"/>
                  <a:pt x="19542" y="12327"/>
                  <a:pt x="19546" y="12378"/>
                </a:cubicBezTo>
                <a:cubicBezTo>
                  <a:pt x="19655" y="12370"/>
                  <a:pt x="19935" y="12276"/>
                  <a:pt x="19993" y="12427"/>
                </a:cubicBezTo>
                <a:cubicBezTo>
                  <a:pt x="20081" y="12656"/>
                  <a:pt x="19707" y="12690"/>
                  <a:pt x="19596" y="12700"/>
                </a:cubicBezTo>
              </a:path>
              <a:path w="3002" h="5260">
                <a:moveTo>
                  <a:pt x="20389" y="11311"/>
                </a:moveTo>
                <a:cubicBezTo>
                  <a:pt x="20389" y="11476"/>
                  <a:pt x="20389" y="11642"/>
                  <a:pt x="20389" y="11807"/>
                </a:cubicBezTo>
              </a:path>
              <a:path w="3002" h="5260">
                <a:moveTo>
                  <a:pt x="20265" y="11782"/>
                </a:moveTo>
                <a:cubicBezTo>
                  <a:pt x="20304" y="11859"/>
                  <a:pt x="20303" y="11874"/>
                  <a:pt x="20340" y="11906"/>
                </a:cubicBezTo>
                <a:cubicBezTo>
                  <a:pt x="20456" y="11831"/>
                  <a:pt x="20554" y="11747"/>
                  <a:pt x="20662" y="11658"/>
                </a:cubicBezTo>
              </a:path>
              <a:path w="3002" h="5260">
                <a:moveTo>
                  <a:pt x="20389" y="12204"/>
                </a:moveTo>
                <a:cubicBezTo>
                  <a:pt x="20476" y="12052"/>
                  <a:pt x="20346" y="12161"/>
                  <a:pt x="20241" y="12179"/>
                </a:cubicBezTo>
                <a:cubicBezTo>
                  <a:pt x="20143" y="12195"/>
                  <a:pt x="20148" y="12281"/>
                  <a:pt x="20141" y="12378"/>
                </a:cubicBezTo>
                <a:cubicBezTo>
                  <a:pt x="20141" y="12386"/>
                  <a:pt x="20141" y="12394"/>
                  <a:pt x="20141" y="12402"/>
                </a:cubicBezTo>
                <a:cubicBezTo>
                  <a:pt x="20294" y="12391"/>
                  <a:pt x="20398" y="12356"/>
                  <a:pt x="20538" y="12402"/>
                </a:cubicBezTo>
                <a:cubicBezTo>
                  <a:pt x="20553" y="12585"/>
                  <a:pt x="20425" y="12627"/>
                  <a:pt x="20241" y="12650"/>
                </a:cubicBezTo>
                <a:cubicBezTo>
                  <a:pt x="20200" y="12650"/>
                  <a:pt x="20158" y="12650"/>
                  <a:pt x="20117" y="12650"/>
                </a:cubicBezTo>
              </a:path>
              <a:path w="3002" h="5260">
                <a:moveTo>
                  <a:pt x="20117" y="9376"/>
                </a:moveTo>
                <a:cubicBezTo>
                  <a:pt x="20125" y="9417"/>
                  <a:pt x="20133" y="9459"/>
                  <a:pt x="20141" y="9500"/>
                </a:cubicBezTo>
                <a:cubicBezTo>
                  <a:pt x="20195" y="9581"/>
                  <a:pt x="20103" y="9454"/>
                  <a:pt x="20216" y="9401"/>
                </a:cubicBezTo>
                <a:cubicBezTo>
                  <a:pt x="20333" y="9346"/>
                  <a:pt x="20460" y="9291"/>
                  <a:pt x="20588" y="9277"/>
                </a:cubicBezTo>
                <a:cubicBezTo>
                  <a:pt x="20588" y="9499"/>
                  <a:pt x="20564" y="9703"/>
                  <a:pt x="20538" y="9922"/>
                </a:cubicBezTo>
                <a:cubicBezTo>
                  <a:pt x="20538" y="9938"/>
                  <a:pt x="20538" y="9955"/>
                  <a:pt x="20538" y="9971"/>
                </a:cubicBezTo>
              </a:path>
              <a:path w="3002" h="5260">
                <a:moveTo>
                  <a:pt x="19645" y="12948"/>
                </a:moveTo>
                <a:cubicBezTo>
                  <a:pt x="19606" y="13046"/>
                  <a:pt x="19590" y="13060"/>
                  <a:pt x="19596" y="13122"/>
                </a:cubicBezTo>
                <a:cubicBezTo>
                  <a:pt x="19705" y="13102"/>
                  <a:pt x="19793" y="13088"/>
                  <a:pt x="19893" y="13047"/>
                </a:cubicBezTo>
              </a:path>
              <a:path w="3002" h="5260">
                <a:moveTo>
                  <a:pt x="19844" y="12824"/>
                </a:moveTo>
                <a:cubicBezTo>
                  <a:pt x="19814" y="13012"/>
                  <a:pt x="19827" y="13159"/>
                  <a:pt x="19869" y="13345"/>
                </a:cubicBezTo>
              </a:path>
              <a:path w="3002" h="5260">
                <a:moveTo>
                  <a:pt x="20389" y="13022"/>
                </a:moveTo>
                <a:cubicBezTo>
                  <a:pt x="20379" y="12941"/>
                  <a:pt x="20328" y="12829"/>
                  <a:pt x="20216" y="12874"/>
                </a:cubicBezTo>
                <a:cubicBezTo>
                  <a:pt x="20091" y="12925"/>
                  <a:pt x="20084" y="13012"/>
                  <a:pt x="20067" y="13122"/>
                </a:cubicBezTo>
                <a:cubicBezTo>
                  <a:pt x="20155" y="13081"/>
                  <a:pt x="20217" y="13039"/>
                  <a:pt x="20290" y="12973"/>
                </a:cubicBezTo>
                <a:cubicBezTo>
                  <a:pt x="20314" y="13115"/>
                  <a:pt x="20340" y="13251"/>
                  <a:pt x="20340" y="13395"/>
                </a:cubicBezTo>
              </a:path>
              <a:path w="3002" h="5260">
                <a:moveTo>
                  <a:pt x="19000" y="13072"/>
                </a:moveTo>
                <a:cubicBezTo>
                  <a:pt x="19108" y="13072"/>
                  <a:pt x="19133" y="13072"/>
                  <a:pt x="19199" y="13072"/>
                </a:cubicBezTo>
              </a:path>
              <a:path w="3002" h="5260">
                <a:moveTo>
                  <a:pt x="19199" y="13667"/>
                </a:moveTo>
                <a:cubicBezTo>
                  <a:pt x="19574" y="13617"/>
                  <a:pt x="19963" y="13607"/>
                  <a:pt x="20340" y="13643"/>
                </a:cubicBezTo>
                <a:cubicBezTo>
                  <a:pt x="20564" y="13683"/>
                  <a:pt x="20605" y="13690"/>
                  <a:pt x="20737" y="13717"/>
                </a:cubicBezTo>
              </a:path>
              <a:path w="3002" h="5260">
                <a:moveTo>
                  <a:pt x="20290" y="13990"/>
                </a:moveTo>
                <a:cubicBezTo>
                  <a:pt x="20241" y="14180"/>
                  <a:pt x="20178" y="14336"/>
                  <a:pt x="20241" y="14511"/>
                </a:cubicBezTo>
                <a:cubicBezTo>
                  <a:pt x="20418" y="14522"/>
                  <a:pt x="20537" y="14463"/>
                  <a:pt x="20588" y="14263"/>
                </a:cubicBezTo>
                <a:cubicBezTo>
                  <a:pt x="20654" y="14006"/>
                  <a:pt x="20437" y="14345"/>
                  <a:pt x="20414" y="1443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12960" y="5483160"/>
            <a:ext cx="71280" cy="8892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5060" y="15329"/>
                </a:moveTo>
                <a:cubicBezTo>
                  <a:pt x="5060" y="15197"/>
                  <a:pt x="5190" y="15410"/>
                  <a:pt x="5234" y="15453"/>
                </a:cubicBezTo>
              </a:path>
              <a:path w="200" h="249">
                <a:moveTo>
                  <a:pt x="5135" y="15230"/>
                </a:moveTo>
                <a:cubicBezTo>
                  <a:pt x="5095" y="15314"/>
                  <a:pt x="5065" y="15390"/>
                  <a:pt x="5035" y="1547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84240" y="5840280"/>
            <a:ext cx="347760" cy="536760"/>
          </a:xfrm>
          <a:custGeom>
            <a:avLst/>
            <a:gdLst/>
            <a:ahLst/>
            <a:rect l="l" t="t" r="r" b="b"/>
            <a:pathLst>
              <a:path w="968" h="1490">
                <a:moveTo>
                  <a:pt x="5333" y="16421"/>
                </a:moveTo>
                <a:cubicBezTo>
                  <a:pt x="5302" y="16495"/>
                  <a:pt x="5172" y="16764"/>
                  <a:pt x="5234" y="16842"/>
                </a:cubicBezTo>
                <a:cubicBezTo>
                  <a:pt x="5329" y="16963"/>
                  <a:pt x="5524" y="16879"/>
                  <a:pt x="5606" y="16793"/>
                </a:cubicBezTo>
                <a:cubicBezTo>
                  <a:pt x="5649" y="16748"/>
                  <a:pt x="5667" y="16698"/>
                  <a:pt x="5680" y="16644"/>
                </a:cubicBezTo>
                <a:cubicBezTo>
                  <a:pt x="5531" y="16631"/>
                  <a:pt x="5513" y="16699"/>
                  <a:pt x="5457" y="16842"/>
                </a:cubicBezTo>
                <a:cubicBezTo>
                  <a:pt x="5457" y="16850"/>
                  <a:pt x="5457" y="16859"/>
                  <a:pt x="5457" y="16867"/>
                </a:cubicBezTo>
              </a:path>
              <a:path w="968" h="1490">
                <a:moveTo>
                  <a:pt x="6028" y="16222"/>
                </a:moveTo>
                <a:cubicBezTo>
                  <a:pt x="5943" y="16278"/>
                  <a:pt x="5877" y="16348"/>
                  <a:pt x="5804" y="16421"/>
                </a:cubicBezTo>
                <a:cubicBezTo>
                  <a:pt x="5899" y="16486"/>
                  <a:pt x="6119" y="16550"/>
                  <a:pt x="6077" y="16694"/>
                </a:cubicBezTo>
                <a:cubicBezTo>
                  <a:pt x="6048" y="16793"/>
                  <a:pt x="5900" y="16784"/>
                  <a:pt x="5829" y="16793"/>
                </a:cubicBezTo>
                <a:cubicBezTo>
                  <a:pt x="5779" y="16626"/>
                  <a:pt x="5836" y="16571"/>
                  <a:pt x="5953" y="16446"/>
                </a:cubicBezTo>
                <a:cubicBezTo>
                  <a:pt x="6043" y="16350"/>
                  <a:pt x="6160" y="16329"/>
                  <a:pt x="6052" y="16222"/>
                </a:cubicBezTo>
              </a:path>
              <a:path w="968" h="1490">
                <a:moveTo>
                  <a:pt x="5333" y="17190"/>
                </a:moveTo>
                <a:cubicBezTo>
                  <a:pt x="5305" y="17162"/>
                  <a:pt x="5296" y="17148"/>
                  <a:pt x="5308" y="17115"/>
                </a:cubicBezTo>
                <a:cubicBezTo>
                  <a:pt x="5531" y="17036"/>
                  <a:pt x="5766" y="16984"/>
                  <a:pt x="6003" y="16966"/>
                </a:cubicBezTo>
                <a:cubicBezTo>
                  <a:pt x="6121" y="16966"/>
                  <a:pt x="6142" y="16980"/>
                  <a:pt x="6201" y="16942"/>
                </a:cubicBezTo>
              </a:path>
              <a:path w="968" h="1490">
                <a:moveTo>
                  <a:pt x="5556" y="17289"/>
                </a:moveTo>
                <a:cubicBezTo>
                  <a:pt x="5663" y="17274"/>
                  <a:pt x="5797" y="17209"/>
                  <a:pt x="5904" y="17214"/>
                </a:cubicBezTo>
                <a:cubicBezTo>
                  <a:pt x="6030" y="17220"/>
                  <a:pt x="5888" y="17485"/>
                  <a:pt x="5879" y="17512"/>
                </a:cubicBezTo>
                <a:cubicBezTo>
                  <a:pt x="5858" y="17574"/>
                  <a:pt x="5840" y="17647"/>
                  <a:pt x="5829" y="177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240" y="4071960"/>
            <a:ext cx="49068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2208" y="11361"/>
                </a:moveTo>
                <a:cubicBezTo>
                  <a:pt x="2455" y="11343"/>
                  <a:pt x="2704" y="11320"/>
                  <a:pt x="2952" y="11311"/>
                </a:cubicBezTo>
                <a:cubicBezTo>
                  <a:pt x="3158" y="11304"/>
                  <a:pt x="3366" y="11311"/>
                  <a:pt x="3572" y="11311"/>
                </a:cubicBezTo>
              </a:path>
              <a:path w="1365" h="944">
                <a:moveTo>
                  <a:pt x="3001" y="11609"/>
                </a:moveTo>
                <a:cubicBezTo>
                  <a:pt x="2945" y="11785"/>
                  <a:pt x="2904" y="11970"/>
                  <a:pt x="2877" y="12154"/>
                </a:cubicBezTo>
                <a:cubicBezTo>
                  <a:pt x="2877" y="12204"/>
                  <a:pt x="2877" y="12221"/>
                  <a:pt x="2877" y="122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3640" y="5518080"/>
            <a:ext cx="63360" cy="81000"/>
          </a:xfrm>
          <a:custGeom>
            <a:avLst/>
            <a:gdLst/>
            <a:ahLst/>
            <a:rect l="l" t="t" r="r" b="b"/>
            <a:pathLst>
              <a:path w="175" h="225">
                <a:moveTo>
                  <a:pt x="3150" y="15404"/>
                </a:moveTo>
                <a:cubicBezTo>
                  <a:pt x="3229" y="15414"/>
                  <a:pt x="3268" y="15427"/>
                  <a:pt x="3299" y="15503"/>
                </a:cubicBezTo>
              </a:path>
              <a:path w="175" h="225">
                <a:moveTo>
                  <a:pt x="3324" y="15329"/>
                </a:moveTo>
                <a:cubicBezTo>
                  <a:pt x="3238" y="15399"/>
                  <a:pt x="3199" y="15454"/>
                  <a:pt x="3150" y="1555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70000" y="5919840"/>
            <a:ext cx="598320" cy="501480"/>
          </a:xfrm>
          <a:custGeom>
            <a:avLst/>
            <a:gdLst/>
            <a:ahLst/>
            <a:rect l="l" t="t" r="r" b="b"/>
            <a:pathLst>
              <a:path w="1663" h="1390">
                <a:moveTo>
                  <a:pt x="3597" y="16495"/>
                </a:moveTo>
                <a:cubicBezTo>
                  <a:pt x="3581" y="16511"/>
                  <a:pt x="3446" y="16817"/>
                  <a:pt x="3398" y="16917"/>
                </a:cubicBezTo>
                <a:cubicBezTo>
                  <a:pt x="3390" y="16933"/>
                  <a:pt x="3381" y="16950"/>
                  <a:pt x="3373" y="16966"/>
                </a:cubicBezTo>
              </a:path>
              <a:path w="1663" h="1390">
                <a:moveTo>
                  <a:pt x="3820" y="16446"/>
                </a:moveTo>
                <a:cubicBezTo>
                  <a:pt x="3939" y="16453"/>
                  <a:pt x="4049" y="16483"/>
                  <a:pt x="4167" y="16495"/>
                </a:cubicBezTo>
                <a:cubicBezTo>
                  <a:pt x="4109" y="16649"/>
                  <a:pt x="4042" y="16795"/>
                  <a:pt x="3969" y="16942"/>
                </a:cubicBezTo>
              </a:path>
              <a:path w="1663" h="1390">
                <a:moveTo>
                  <a:pt x="3249" y="17140"/>
                </a:moveTo>
                <a:cubicBezTo>
                  <a:pt x="3534" y="17169"/>
                  <a:pt x="3812" y="17174"/>
                  <a:pt x="4093" y="17190"/>
                </a:cubicBezTo>
                <a:cubicBezTo>
                  <a:pt x="4109" y="17190"/>
                  <a:pt x="4126" y="17190"/>
                  <a:pt x="4142" y="17190"/>
                </a:cubicBezTo>
              </a:path>
              <a:path w="1663" h="1390">
                <a:moveTo>
                  <a:pt x="3473" y="17338"/>
                </a:moveTo>
                <a:cubicBezTo>
                  <a:pt x="3579" y="17331"/>
                  <a:pt x="3796" y="17255"/>
                  <a:pt x="3845" y="17388"/>
                </a:cubicBezTo>
                <a:cubicBezTo>
                  <a:pt x="3891" y="17515"/>
                  <a:pt x="3721" y="17564"/>
                  <a:pt x="3646" y="17611"/>
                </a:cubicBezTo>
                <a:cubicBezTo>
                  <a:pt x="3638" y="17611"/>
                  <a:pt x="3629" y="17611"/>
                  <a:pt x="3621" y="17611"/>
                </a:cubicBezTo>
                <a:cubicBezTo>
                  <a:pt x="3687" y="17578"/>
                  <a:pt x="3932" y="17464"/>
                  <a:pt x="3894" y="17661"/>
                </a:cubicBezTo>
                <a:cubicBezTo>
                  <a:pt x="3862" y="17827"/>
                  <a:pt x="3663" y="17827"/>
                  <a:pt x="3547" y="17810"/>
                </a:cubicBezTo>
              </a:path>
              <a:path w="1663" h="1390">
                <a:moveTo>
                  <a:pt x="4390" y="17165"/>
                </a:moveTo>
                <a:cubicBezTo>
                  <a:pt x="4577" y="17123"/>
                  <a:pt x="4721" y="17113"/>
                  <a:pt x="4911" y="17140"/>
                </a:cubicBezTo>
              </a:path>
              <a:path w="1663" h="1390">
                <a:moveTo>
                  <a:pt x="4663" y="16768"/>
                </a:moveTo>
                <a:lnTo>
                  <a:pt x="4663" y="16768"/>
                </a:lnTo>
              </a:path>
              <a:path w="1663" h="1390">
                <a:moveTo>
                  <a:pt x="4663" y="17413"/>
                </a:moveTo>
                <a:lnTo>
                  <a:pt x="4663" y="1741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83120" y="3527280"/>
            <a:ext cx="1089000" cy="696960"/>
          </a:xfrm>
          <a:custGeom>
            <a:avLst/>
            <a:gdLst/>
            <a:ahLst/>
            <a:rect l="l" t="t" r="r" b="b"/>
            <a:pathLst>
              <a:path w="3027" h="1936">
                <a:moveTo>
                  <a:pt x="13841" y="10840"/>
                </a:moveTo>
                <a:cubicBezTo>
                  <a:pt x="14135" y="10781"/>
                  <a:pt x="14412" y="10816"/>
                  <a:pt x="14709" y="10790"/>
                </a:cubicBezTo>
                <a:cubicBezTo>
                  <a:pt x="15136" y="10752"/>
                  <a:pt x="15543" y="10716"/>
                  <a:pt x="15974" y="10716"/>
                </a:cubicBezTo>
                <a:cubicBezTo>
                  <a:pt x="16106" y="10716"/>
                  <a:pt x="16139" y="10716"/>
                  <a:pt x="16222" y="10716"/>
                </a:cubicBezTo>
              </a:path>
              <a:path w="3027" h="1936">
                <a:moveTo>
                  <a:pt x="14660" y="11063"/>
                </a:moveTo>
                <a:cubicBezTo>
                  <a:pt x="14802" y="11020"/>
                  <a:pt x="14931" y="11002"/>
                  <a:pt x="15081" y="10988"/>
                </a:cubicBezTo>
                <a:cubicBezTo>
                  <a:pt x="15068" y="11186"/>
                  <a:pt x="14955" y="11470"/>
                  <a:pt x="14883" y="11683"/>
                </a:cubicBezTo>
                <a:cubicBezTo>
                  <a:pt x="14875" y="11700"/>
                  <a:pt x="14866" y="11716"/>
                  <a:pt x="14858" y="11733"/>
                </a:cubicBezTo>
              </a:path>
              <a:path w="3027" h="1936">
                <a:moveTo>
                  <a:pt x="14188" y="9971"/>
                </a:moveTo>
                <a:cubicBezTo>
                  <a:pt x="14188" y="9891"/>
                  <a:pt x="14188" y="10353"/>
                  <a:pt x="14188" y="10368"/>
                </a:cubicBezTo>
                <a:cubicBezTo>
                  <a:pt x="14188" y="10479"/>
                  <a:pt x="14215" y="10502"/>
                  <a:pt x="14163" y="10542"/>
                </a:cubicBezTo>
              </a:path>
              <a:path w="3027" h="1936">
                <a:moveTo>
                  <a:pt x="14511" y="9947"/>
                </a:moveTo>
                <a:cubicBezTo>
                  <a:pt x="14566" y="9862"/>
                  <a:pt x="14592" y="9830"/>
                  <a:pt x="14660" y="9798"/>
                </a:cubicBezTo>
                <a:cubicBezTo>
                  <a:pt x="14849" y="9878"/>
                  <a:pt x="15011" y="10031"/>
                  <a:pt x="14858" y="10269"/>
                </a:cubicBezTo>
                <a:cubicBezTo>
                  <a:pt x="14764" y="10416"/>
                  <a:pt x="14582" y="10405"/>
                  <a:pt x="14436" y="10418"/>
                </a:cubicBezTo>
                <a:cubicBezTo>
                  <a:pt x="14425" y="10239"/>
                  <a:pt x="14511" y="10122"/>
                  <a:pt x="14734" y="10170"/>
                </a:cubicBezTo>
                <a:cubicBezTo>
                  <a:pt x="14910" y="10208"/>
                  <a:pt x="14957" y="10313"/>
                  <a:pt x="14957" y="10468"/>
                </a:cubicBezTo>
              </a:path>
              <a:path w="3027" h="1936">
                <a:moveTo>
                  <a:pt x="15379" y="9798"/>
                </a:moveTo>
                <a:cubicBezTo>
                  <a:pt x="15379" y="9940"/>
                  <a:pt x="15272" y="9839"/>
                  <a:pt x="15230" y="9897"/>
                </a:cubicBezTo>
                <a:cubicBezTo>
                  <a:pt x="15175" y="9974"/>
                  <a:pt x="15165" y="10080"/>
                  <a:pt x="15156" y="10170"/>
                </a:cubicBezTo>
                <a:cubicBezTo>
                  <a:pt x="15238" y="10133"/>
                  <a:pt x="15407" y="10025"/>
                  <a:pt x="15453" y="10195"/>
                </a:cubicBezTo>
                <a:cubicBezTo>
                  <a:pt x="15495" y="10352"/>
                  <a:pt x="15239" y="10444"/>
                  <a:pt x="15131" y="10418"/>
                </a:cubicBezTo>
                <a:cubicBezTo>
                  <a:pt x="15052" y="10366"/>
                  <a:pt x="15032" y="10350"/>
                  <a:pt x="15156" y="10393"/>
                </a:cubicBezTo>
              </a:path>
              <a:path w="3027" h="1936">
                <a:moveTo>
                  <a:pt x="16594" y="10691"/>
                </a:moveTo>
                <a:cubicBezTo>
                  <a:pt x="16687" y="10671"/>
                  <a:pt x="16775" y="10661"/>
                  <a:pt x="16867" y="10641"/>
                </a:cubicBezTo>
              </a:path>
              <a:path w="3027" h="1936">
                <a:moveTo>
                  <a:pt x="16594" y="10939"/>
                </a:moveTo>
                <a:cubicBezTo>
                  <a:pt x="16685" y="10905"/>
                  <a:pt x="16748" y="10878"/>
                  <a:pt x="16842" y="108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78800" y="3044880"/>
            <a:ext cx="1206360" cy="1090440"/>
          </a:xfrm>
          <a:custGeom>
            <a:avLst/>
            <a:gdLst/>
            <a:ahLst/>
            <a:rect l="l" t="t" r="r" b="b"/>
            <a:pathLst>
              <a:path w="3350" h="3028">
                <a:moveTo>
                  <a:pt x="21357" y="10517"/>
                </a:moveTo>
                <a:cubicBezTo>
                  <a:pt x="21431" y="10542"/>
                  <a:pt x="21456" y="10550"/>
                  <a:pt x="21506" y="10517"/>
                </a:cubicBezTo>
              </a:path>
              <a:path w="3350" h="3028">
                <a:moveTo>
                  <a:pt x="21332" y="10740"/>
                </a:moveTo>
                <a:cubicBezTo>
                  <a:pt x="21448" y="10718"/>
                  <a:pt x="21482" y="10712"/>
                  <a:pt x="21555" y="10691"/>
                </a:cubicBezTo>
              </a:path>
              <a:path w="3350" h="3028">
                <a:moveTo>
                  <a:pt x="21927" y="10021"/>
                </a:moveTo>
                <a:lnTo>
                  <a:pt x="21927" y="10021"/>
                </a:lnTo>
              </a:path>
              <a:path w="3350" h="3028">
                <a:moveTo>
                  <a:pt x="21977" y="10046"/>
                </a:moveTo>
                <a:cubicBezTo>
                  <a:pt x="21951" y="10351"/>
                  <a:pt x="21935" y="10657"/>
                  <a:pt x="21927" y="10964"/>
                </a:cubicBezTo>
                <a:cubicBezTo>
                  <a:pt x="21927" y="10980"/>
                  <a:pt x="21927" y="10997"/>
                  <a:pt x="21927" y="11013"/>
                </a:cubicBezTo>
              </a:path>
              <a:path w="3350" h="3028">
                <a:moveTo>
                  <a:pt x="22250" y="10046"/>
                </a:moveTo>
                <a:cubicBezTo>
                  <a:pt x="22250" y="10160"/>
                  <a:pt x="22230" y="9987"/>
                  <a:pt x="22299" y="9971"/>
                </a:cubicBezTo>
                <a:cubicBezTo>
                  <a:pt x="22417" y="9944"/>
                  <a:pt x="22573" y="9971"/>
                  <a:pt x="22696" y="9971"/>
                </a:cubicBezTo>
                <a:cubicBezTo>
                  <a:pt x="22731" y="10268"/>
                  <a:pt x="22632" y="10556"/>
                  <a:pt x="22523" y="10840"/>
                </a:cubicBezTo>
                <a:cubicBezTo>
                  <a:pt x="22482" y="10921"/>
                  <a:pt x="22465" y="10974"/>
                  <a:pt x="22473" y="10889"/>
                </a:cubicBezTo>
              </a:path>
              <a:path w="3350" h="3028">
                <a:moveTo>
                  <a:pt x="23416" y="8954"/>
                </a:moveTo>
                <a:cubicBezTo>
                  <a:pt x="23356" y="9111"/>
                  <a:pt x="23263" y="9353"/>
                  <a:pt x="23316" y="9525"/>
                </a:cubicBezTo>
                <a:cubicBezTo>
                  <a:pt x="23341" y="9558"/>
                  <a:pt x="23366" y="9591"/>
                  <a:pt x="23391" y="9624"/>
                </a:cubicBezTo>
                <a:cubicBezTo>
                  <a:pt x="23553" y="9634"/>
                  <a:pt x="23708" y="9579"/>
                  <a:pt x="23738" y="9376"/>
                </a:cubicBezTo>
                <a:cubicBezTo>
                  <a:pt x="23730" y="9351"/>
                  <a:pt x="23721" y="9327"/>
                  <a:pt x="23713" y="9302"/>
                </a:cubicBezTo>
                <a:cubicBezTo>
                  <a:pt x="23523" y="9323"/>
                  <a:pt x="23500" y="9453"/>
                  <a:pt x="23465" y="9624"/>
                </a:cubicBezTo>
                <a:cubicBezTo>
                  <a:pt x="23465" y="9641"/>
                  <a:pt x="23465" y="9657"/>
                  <a:pt x="23465" y="9674"/>
                </a:cubicBezTo>
              </a:path>
              <a:path w="3350" h="3028">
                <a:moveTo>
                  <a:pt x="23143" y="9922"/>
                </a:moveTo>
                <a:cubicBezTo>
                  <a:pt x="23354" y="9903"/>
                  <a:pt x="23552" y="9838"/>
                  <a:pt x="23763" y="9823"/>
                </a:cubicBezTo>
                <a:cubicBezTo>
                  <a:pt x="23771" y="9823"/>
                  <a:pt x="23780" y="9823"/>
                  <a:pt x="23788" y="9823"/>
                </a:cubicBezTo>
              </a:path>
              <a:path w="3350" h="3028">
                <a:moveTo>
                  <a:pt x="23217" y="10195"/>
                </a:moveTo>
                <a:cubicBezTo>
                  <a:pt x="23313" y="10163"/>
                  <a:pt x="23520" y="10065"/>
                  <a:pt x="23614" y="10096"/>
                </a:cubicBezTo>
                <a:cubicBezTo>
                  <a:pt x="23777" y="10150"/>
                  <a:pt x="23547" y="10499"/>
                  <a:pt x="23515" y="10567"/>
                </a:cubicBezTo>
                <a:cubicBezTo>
                  <a:pt x="23498" y="10600"/>
                  <a:pt x="23482" y="10633"/>
                  <a:pt x="23465" y="10666"/>
                </a:cubicBezTo>
              </a:path>
              <a:path w="3350" h="3028">
                <a:moveTo>
                  <a:pt x="21580" y="11187"/>
                </a:moveTo>
                <a:cubicBezTo>
                  <a:pt x="21761" y="11296"/>
                  <a:pt x="21913" y="11377"/>
                  <a:pt x="22126" y="11410"/>
                </a:cubicBezTo>
                <a:cubicBezTo>
                  <a:pt x="22388" y="11451"/>
                  <a:pt x="22679" y="11491"/>
                  <a:pt x="22944" y="11485"/>
                </a:cubicBezTo>
                <a:cubicBezTo>
                  <a:pt x="23275" y="11477"/>
                  <a:pt x="23687" y="11415"/>
                  <a:pt x="23986" y="11261"/>
                </a:cubicBezTo>
                <a:cubicBezTo>
                  <a:pt x="24158" y="11172"/>
                  <a:pt x="24296" y="10952"/>
                  <a:pt x="24383" y="10790"/>
                </a:cubicBezTo>
                <a:cubicBezTo>
                  <a:pt x="24490" y="10590"/>
                  <a:pt x="24541" y="10362"/>
                  <a:pt x="24606" y="10145"/>
                </a:cubicBezTo>
                <a:cubicBezTo>
                  <a:pt x="24656" y="9978"/>
                  <a:pt x="24715" y="9777"/>
                  <a:pt x="24681" y="9599"/>
                </a:cubicBezTo>
                <a:cubicBezTo>
                  <a:pt x="24655" y="9463"/>
                  <a:pt x="24590" y="9328"/>
                  <a:pt x="24532" y="9203"/>
                </a:cubicBezTo>
                <a:cubicBezTo>
                  <a:pt x="24461" y="9049"/>
                  <a:pt x="24351" y="8927"/>
                  <a:pt x="24234" y="8806"/>
                </a:cubicBezTo>
                <a:cubicBezTo>
                  <a:pt x="24132" y="8700"/>
                  <a:pt x="24045" y="8623"/>
                  <a:pt x="23912" y="8558"/>
                </a:cubicBezTo>
                <a:cubicBezTo>
                  <a:pt x="23745" y="8477"/>
                  <a:pt x="23500" y="8435"/>
                  <a:pt x="23316" y="8458"/>
                </a:cubicBezTo>
                <a:cubicBezTo>
                  <a:pt x="22945" y="8505"/>
                  <a:pt x="22603" y="8673"/>
                  <a:pt x="22299" y="8880"/>
                </a:cubicBezTo>
                <a:cubicBezTo>
                  <a:pt x="22160" y="8975"/>
                  <a:pt x="22006" y="9092"/>
                  <a:pt x="21903" y="9227"/>
                </a:cubicBezTo>
                <a:cubicBezTo>
                  <a:pt x="21773" y="9398"/>
                  <a:pt x="21671" y="9670"/>
                  <a:pt x="21605" y="9872"/>
                </a:cubicBezTo>
                <a:cubicBezTo>
                  <a:pt x="21549" y="10044"/>
                  <a:pt x="21540" y="10239"/>
                  <a:pt x="21530" y="10418"/>
                </a:cubicBezTo>
                <a:cubicBezTo>
                  <a:pt x="21519" y="10613"/>
                  <a:pt x="21572" y="10783"/>
                  <a:pt x="21630" y="109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63880" y="5106960"/>
            <a:ext cx="2635200" cy="1465200"/>
          </a:xfrm>
          <a:custGeom>
            <a:avLst/>
            <a:gdLst/>
            <a:ahLst/>
            <a:rect l="l" t="t" r="r" b="b"/>
            <a:pathLst>
              <a:path w="7319" h="4069">
                <a:moveTo>
                  <a:pt x="8533" y="15577"/>
                </a:moveTo>
                <a:cubicBezTo>
                  <a:pt x="8469" y="15483"/>
                  <a:pt x="8522" y="15870"/>
                  <a:pt x="8508" y="16024"/>
                </a:cubicBezTo>
                <a:cubicBezTo>
                  <a:pt x="8508" y="16032"/>
                  <a:pt x="8508" y="16041"/>
                  <a:pt x="8508" y="16049"/>
                </a:cubicBezTo>
              </a:path>
              <a:path w="7319" h="4069">
                <a:moveTo>
                  <a:pt x="8806" y="15404"/>
                </a:moveTo>
                <a:cubicBezTo>
                  <a:pt x="8945" y="15424"/>
                  <a:pt x="9063" y="15420"/>
                  <a:pt x="9203" y="15379"/>
                </a:cubicBezTo>
                <a:cubicBezTo>
                  <a:pt x="9219" y="15371"/>
                  <a:pt x="9236" y="15362"/>
                  <a:pt x="9252" y="15354"/>
                </a:cubicBezTo>
                <a:cubicBezTo>
                  <a:pt x="9217" y="15582"/>
                  <a:pt x="9150" y="15803"/>
                  <a:pt x="9079" y="16024"/>
                </a:cubicBezTo>
              </a:path>
              <a:path w="7319" h="4069">
                <a:moveTo>
                  <a:pt x="8235" y="16272"/>
                </a:moveTo>
                <a:cubicBezTo>
                  <a:pt x="8566" y="16272"/>
                  <a:pt x="8929" y="16110"/>
                  <a:pt x="9277" y="16073"/>
                </a:cubicBezTo>
                <a:cubicBezTo>
                  <a:pt x="9452" y="16055"/>
                  <a:pt x="9474" y="16042"/>
                  <a:pt x="9550" y="16148"/>
                </a:cubicBezTo>
              </a:path>
              <a:path w="7319" h="4069">
                <a:moveTo>
                  <a:pt x="8682" y="16545"/>
                </a:moveTo>
                <a:cubicBezTo>
                  <a:pt x="8822" y="16474"/>
                  <a:pt x="8876" y="16466"/>
                  <a:pt x="9029" y="16495"/>
                </a:cubicBezTo>
                <a:cubicBezTo>
                  <a:pt x="8985" y="16672"/>
                  <a:pt x="8872" y="16737"/>
                  <a:pt x="8731" y="16867"/>
                </a:cubicBezTo>
                <a:cubicBezTo>
                  <a:pt x="8787" y="16790"/>
                  <a:pt x="8999" y="16618"/>
                  <a:pt x="9029" y="16842"/>
                </a:cubicBezTo>
                <a:cubicBezTo>
                  <a:pt x="9052" y="17009"/>
                  <a:pt x="8835" y="17202"/>
                  <a:pt x="8682" y="17214"/>
                </a:cubicBezTo>
                <a:cubicBezTo>
                  <a:pt x="8632" y="17190"/>
                  <a:pt x="8615" y="17182"/>
                  <a:pt x="8607" y="17140"/>
                </a:cubicBezTo>
              </a:path>
              <a:path w="7319" h="4069">
                <a:moveTo>
                  <a:pt x="9773" y="16049"/>
                </a:moveTo>
                <a:cubicBezTo>
                  <a:pt x="9886" y="16236"/>
                  <a:pt x="10061" y="16386"/>
                  <a:pt x="10220" y="16545"/>
                </a:cubicBezTo>
                <a:cubicBezTo>
                  <a:pt x="10266" y="16591"/>
                  <a:pt x="10278" y="16605"/>
                  <a:pt x="10319" y="16619"/>
                </a:cubicBezTo>
              </a:path>
              <a:path w="7319" h="4069">
                <a:moveTo>
                  <a:pt x="10220" y="15949"/>
                </a:moveTo>
                <a:cubicBezTo>
                  <a:pt x="10095" y="16169"/>
                  <a:pt x="9983" y="16392"/>
                  <a:pt x="9798" y="16570"/>
                </a:cubicBezTo>
                <a:cubicBezTo>
                  <a:pt x="9734" y="16612"/>
                  <a:pt x="9709" y="16615"/>
                  <a:pt x="9723" y="16669"/>
                </a:cubicBezTo>
              </a:path>
              <a:path w="7319" h="4069">
                <a:moveTo>
                  <a:pt x="10740" y="15230"/>
                </a:moveTo>
                <a:cubicBezTo>
                  <a:pt x="10840" y="15213"/>
                  <a:pt x="10912" y="15201"/>
                  <a:pt x="11013" y="15180"/>
                </a:cubicBezTo>
                <a:cubicBezTo>
                  <a:pt x="11064" y="15169"/>
                  <a:pt x="11137" y="15159"/>
                  <a:pt x="11187" y="15156"/>
                </a:cubicBezTo>
                <a:cubicBezTo>
                  <a:pt x="11204" y="15156"/>
                  <a:pt x="11220" y="15156"/>
                  <a:pt x="11237" y="15156"/>
                </a:cubicBezTo>
                <a:cubicBezTo>
                  <a:pt x="11172" y="15349"/>
                  <a:pt x="11065" y="15540"/>
                  <a:pt x="11013" y="15726"/>
                </a:cubicBezTo>
              </a:path>
              <a:path w="7319" h="4069">
                <a:moveTo>
                  <a:pt x="10691" y="16049"/>
                </a:moveTo>
                <a:cubicBezTo>
                  <a:pt x="10924" y="15942"/>
                  <a:pt x="11158" y="15971"/>
                  <a:pt x="11410" y="15949"/>
                </a:cubicBezTo>
                <a:cubicBezTo>
                  <a:pt x="11528" y="15930"/>
                  <a:pt x="11549" y="15908"/>
                  <a:pt x="11609" y="15949"/>
                </a:cubicBezTo>
              </a:path>
              <a:path w="7319" h="4069">
                <a:moveTo>
                  <a:pt x="10790" y="16297"/>
                </a:moveTo>
                <a:cubicBezTo>
                  <a:pt x="10737" y="16500"/>
                  <a:pt x="10650" y="16705"/>
                  <a:pt x="10666" y="16917"/>
                </a:cubicBezTo>
                <a:cubicBezTo>
                  <a:pt x="10674" y="16942"/>
                  <a:pt x="10683" y="16966"/>
                  <a:pt x="10691" y="16991"/>
                </a:cubicBezTo>
                <a:cubicBezTo>
                  <a:pt x="10895" y="17003"/>
                  <a:pt x="11042" y="16925"/>
                  <a:pt x="11137" y="16718"/>
                </a:cubicBezTo>
                <a:cubicBezTo>
                  <a:pt x="11137" y="16652"/>
                  <a:pt x="11145" y="16628"/>
                  <a:pt x="11088" y="16644"/>
                </a:cubicBezTo>
                <a:cubicBezTo>
                  <a:pt x="11030" y="16681"/>
                  <a:pt x="10670" y="16937"/>
                  <a:pt x="10765" y="17041"/>
                </a:cubicBezTo>
                <a:cubicBezTo>
                  <a:pt x="10790" y="17033"/>
                  <a:pt x="10815" y="17024"/>
                  <a:pt x="10840" y="17016"/>
                </a:cubicBezTo>
              </a:path>
              <a:path w="7319" h="4069">
                <a:moveTo>
                  <a:pt x="11460" y="16247"/>
                </a:moveTo>
                <a:cubicBezTo>
                  <a:pt x="11311" y="16272"/>
                  <a:pt x="11256" y="16349"/>
                  <a:pt x="11162" y="16470"/>
                </a:cubicBezTo>
                <a:cubicBezTo>
                  <a:pt x="11244" y="16559"/>
                  <a:pt x="11505" y="16660"/>
                  <a:pt x="11509" y="16793"/>
                </a:cubicBezTo>
                <a:cubicBezTo>
                  <a:pt x="11512" y="16903"/>
                  <a:pt x="11431" y="16908"/>
                  <a:pt x="11361" y="16917"/>
                </a:cubicBezTo>
                <a:cubicBezTo>
                  <a:pt x="11290" y="16705"/>
                  <a:pt x="11392" y="16620"/>
                  <a:pt x="11485" y="16421"/>
                </a:cubicBezTo>
                <a:cubicBezTo>
                  <a:pt x="11506" y="16355"/>
                  <a:pt x="11524" y="16330"/>
                  <a:pt x="11460" y="16346"/>
                </a:cubicBezTo>
              </a:path>
              <a:path w="7319" h="4069">
                <a:moveTo>
                  <a:pt x="8409" y="15404"/>
                </a:moveTo>
                <a:cubicBezTo>
                  <a:pt x="8565" y="15403"/>
                  <a:pt x="8939" y="15620"/>
                  <a:pt x="9103" y="15701"/>
                </a:cubicBezTo>
                <a:cubicBezTo>
                  <a:pt x="9261" y="15779"/>
                  <a:pt x="9349" y="15839"/>
                  <a:pt x="9475" y="15949"/>
                </a:cubicBezTo>
              </a:path>
              <a:path w="7319" h="4069">
                <a:moveTo>
                  <a:pt x="8533" y="14188"/>
                </a:moveTo>
                <a:cubicBezTo>
                  <a:pt x="8557" y="14411"/>
                  <a:pt x="8608" y="14633"/>
                  <a:pt x="8632" y="14858"/>
                </a:cubicBezTo>
                <a:cubicBezTo>
                  <a:pt x="8632" y="14875"/>
                  <a:pt x="8632" y="14891"/>
                  <a:pt x="8632" y="14908"/>
                </a:cubicBezTo>
              </a:path>
              <a:path w="7319" h="4069">
                <a:moveTo>
                  <a:pt x="10393" y="16222"/>
                </a:moveTo>
                <a:cubicBezTo>
                  <a:pt x="10633" y="16430"/>
                  <a:pt x="10883" y="16568"/>
                  <a:pt x="11162" y="16718"/>
                </a:cubicBezTo>
                <a:cubicBezTo>
                  <a:pt x="11258" y="16770"/>
                  <a:pt x="11371" y="16828"/>
                  <a:pt x="11460" y="16892"/>
                </a:cubicBezTo>
              </a:path>
              <a:path w="7319" h="4069">
                <a:moveTo>
                  <a:pt x="10964" y="17587"/>
                </a:moveTo>
                <a:cubicBezTo>
                  <a:pt x="10958" y="17680"/>
                  <a:pt x="10946" y="17767"/>
                  <a:pt x="10939" y="17859"/>
                </a:cubicBezTo>
                <a:cubicBezTo>
                  <a:pt x="11063" y="17871"/>
                  <a:pt x="11185" y="17813"/>
                  <a:pt x="11311" y="17760"/>
                </a:cubicBezTo>
              </a:path>
              <a:path w="7319" h="4069">
                <a:moveTo>
                  <a:pt x="11212" y="17388"/>
                </a:moveTo>
                <a:cubicBezTo>
                  <a:pt x="11253" y="17624"/>
                  <a:pt x="11293" y="17868"/>
                  <a:pt x="11311" y="18107"/>
                </a:cubicBezTo>
                <a:cubicBezTo>
                  <a:pt x="11311" y="18198"/>
                  <a:pt x="11311" y="18206"/>
                  <a:pt x="11311" y="18256"/>
                </a:cubicBezTo>
              </a:path>
              <a:path w="7319" h="4069">
                <a:moveTo>
                  <a:pt x="11981" y="15999"/>
                </a:moveTo>
                <a:cubicBezTo>
                  <a:pt x="12115" y="15944"/>
                  <a:pt x="12234" y="15949"/>
                  <a:pt x="12378" y="15949"/>
                </a:cubicBezTo>
              </a:path>
              <a:path w="7319" h="4069">
                <a:moveTo>
                  <a:pt x="12030" y="16173"/>
                </a:moveTo>
                <a:cubicBezTo>
                  <a:pt x="12154" y="16173"/>
                  <a:pt x="12278" y="16173"/>
                  <a:pt x="12402" y="16173"/>
                </a:cubicBezTo>
              </a:path>
              <a:path w="7319" h="4069">
                <a:moveTo>
                  <a:pt x="13345" y="16197"/>
                </a:moveTo>
                <a:cubicBezTo>
                  <a:pt x="13709" y="16144"/>
                  <a:pt x="14091" y="16168"/>
                  <a:pt x="14461" y="16148"/>
                </a:cubicBezTo>
                <a:cubicBezTo>
                  <a:pt x="14730" y="16133"/>
                  <a:pt x="14990" y="16114"/>
                  <a:pt x="15255" y="16073"/>
                </a:cubicBezTo>
              </a:path>
              <a:path w="7319" h="4069">
                <a:moveTo>
                  <a:pt x="13940" y="16446"/>
                </a:moveTo>
                <a:cubicBezTo>
                  <a:pt x="13940" y="16429"/>
                  <a:pt x="13940" y="16413"/>
                  <a:pt x="13940" y="16396"/>
                </a:cubicBezTo>
                <a:cubicBezTo>
                  <a:pt x="13982" y="16465"/>
                  <a:pt x="13954" y="16753"/>
                  <a:pt x="13940" y="16917"/>
                </a:cubicBezTo>
                <a:cubicBezTo>
                  <a:pt x="13940" y="16933"/>
                  <a:pt x="13940" y="16950"/>
                  <a:pt x="13940" y="16966"/>
                </a:cubicBezTo>
              </a:path>
              <a:path w="7319" h="4069">
                <a:moveTo>
                  <a:pt x="14337" y="16446"/>
                </a:moveTo>
                <a:cubicBezTo>
                  <a:pt x="14442" y="16404"/>
                  <a:pt x="14474" y="16407"/>
                  <a:pt x="14585" y="16421"/>
                </a:cubicBezTo>
                <a:cubicBezTo>
                  <a:pt x="14558" y="16655"/>
                  <a:pt x="14453" y="16747"/>
                  <a:pt x="14288" y="16917"/>
                </a:cubicBezTo>
                <a:cubicBezTo>
                  <a:pt x="14271" y="16933"/>
                  <a:pt x="14255" y="16950"/>
                  <a:pt x="14238" y="16966"/>
                </a:cubicBezTo>
                <a:cubicBezTo>
                  <a:pt x="14418" y="16953"/>
                  <a:pt x="14584" y="16907"/>
                  <a:pt x="14759" y="16867"/>
                </a:cubicBezTo>
              </a:path>
              <a:path w="7319" h="4069">
                <a:moveTo>
                  <a:pt x="13990" y="15379"/>
                </a:moveTo>
                <a:cubicBezTo>
                  <a:pt x="14152" y="15334"/>
                  <a:pt x="14339" y="15331"/>
                  <a:pt x="14511" y="15304"/>
                </a:cubicBezTo>
                <a:cubicBezTo>
                  <a:pt x="14438" y="15500"/>
                  <a:pt x="14342" y="15697"/>
                  <a:pt x="14288" y="15900"/>
                </a:cubicBezTo>
                <a:cubicBezTo>
                  <a:pt x="14288" y="15916"/>
                  <a:pt x="14288" y="15933"/>
                  <a:pt x="14288" y="15949"/>
                </a:cubicBezTo>
              </a:path>
              <a:path w="7319" h="4069">
                <a:moveTo>
                  <a:pt x="12898" y="17338"/>
                </a:moveTo>
                <a:cubicBezTo>
                  <a:pt x="12958" y="17418"/>
                  <a:pt x="13011" y="17476"/>
                  <a:pt x="13097" y="17537"/>
                </a:cubicBezTo>
                <a:cubicBezTo>
                  <a:pt x="13240" y="17638"/>
                  <a:pt x="13448" y="17673"/>
                  <a:pt x="13618" y="17686"/>
                </a:cubicBezTo>
                <a:cubicBezTo>
                  <a:pt x="13801" y="17700"/>
                  <a:pt x="13985" y="17694"/>
                  <a:pt x="14163" y="17686"/>
                </a:cubicBezTo>
                <a:cubicBezTo>
                  <a:pt x="14323" y="17679"/>
                  <a:pt x="14490" y="17638"/>
                  <a:pt x="14635" y="17562"/>
                </a:cubicBezTo>
                <a:cubicBezTo>
                  <a:pt x="14853" y="17448"/>
                  <a:pt x="15008" y="17258"/>
                  <a:pt x="15156" y="17066"/>
                </a:cubicBezTo>
                <a:cubicBezTo>
                  <a:pt x="15330" y="16841"/>
                  <a:pt x="15422" y="16616"/>
                  <a:pt x="15503" y="16346"/>
                </a:cubicBezTo>
                <a:cubicBezTo>
                  <a:pt x="15567" y="16133"/>
                  <a:pt x="15572" y="15899"/>
                  <a:pt x="15553" y="15677"/>
                </a:cubicBezTo>
                <a:cubicBezTo>
                  <a:pt x="15539" y="15505"/>
                  <a:pt x="15542" y="15271"/>
                  <a:pt x="15503" y="15106"/>
                </a:cubicBezTo>
                <a:cubicBezTo>
                  <a:pt x="15472" y="14974"/>
                  <a:pt x="15383" y="14818"/>
                  <a:pt x="15304" y="14709"/>
                </a:cubicBezTo>
                <a:cubicBezTo>
                  <a:pt x="15217" y="14590"/>
                  <a:pt x="15063" y="14518"/>
                  <a:pt x="14932" y="14461"/>
                </a:cubicBezTo>
                <a:cubicBezTo>
                  <a:pt x="14784" y="14396"/>
                  <a:pt x="14598" y="14352"/>
                  <a:pt x="14436" y="14337"/>
                </a:cubicBezTo>
                <a:cubicBezTo>
                  <a:pt x="14231" y="14319"/>
                  <a:pt x="14049" y="14386"/>
                  <a:pt x="13866" y="14461"/>
                </a:cubicBezTo>
                <a:cubicBezTo>
                  <a:pt x="13712" y="14524"/>
                  <a:pt x="13631" y="14600"/>
                  <a:pt x="13519" y="14709"/>
                </a:cubicBezTo>
                <a:cubicBezTo>
                  <a:pt x="13406" y="14818"/>
                  <a:pt x="13366" y="14958"/>
                  <a:pt x="13320" y="15106"/>
                </a:cubicBezTo>
                <a:cubicBezTo>
                  <a:pt x="13284" y="15221"/>
                  <a:pt x="13266" y="15337"/>
                  <a:pt x="13246" y="15453"/>
                </a:cubicBezTo>
                <a:cubicBezTo>
                  <a:pt x="13229" y="15551"/>
                  <a:pt x="13216" y="15654"/>
                  <a:pt x="13196" y="15751"/>
                </a:cubicBezTo>
                <a:cubicBezTo>
                  <a:pt x="13175" y="15853"/>
                  <a:pt x="13165" y="15950"/>
                  <a:pt x="13146" y="16049"/>
                </a:cubicBezTo>
                <a:cubicBezTo>
                  <a:pt x="13127" y="16146"/>
                  <a:pt x="13091" y="16245"/>
                  <a:pt x="13072" y="16346"/>
                </a:cubicBezTo>
                <a:cubicBezTo>
                  <a:pt x="13056" y="16431"/>
                  <a:pt x="13030" y="16537"/>
                  <a:pt x="13022" y="16619"/>
                </a:cubicBezTo>
                <a:cubicBezTo>
                  <a:pt x="12998" y="16860"/>
                  <a:pt x="13000" y="17157"/>
                  <a:pt x="13047" y="17388"/>
                </a:cubicBezTo>
                <a:cubicBezTo>
                  <a:pt x="13066" y="17484"/>
                  <a:pt x="13101" y="17472"/>
                  <a:pt x="13146" y="1753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 &amp; Subtra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7040" y="4419720"/>
            <a:ext cx="1768320" cy="117360"/>
          </a:xfrm>
          <a:custGeom>
            <a:avLst/>
            <a:gdLst/>
            <a:ahLst/>
            <a:rect l="l" t="t" r="r" b="b"/>
            <a:pathLst>
              <a:path w="4913" h="324">
                <a:moveTo>
                  <a:pt x="1463" y="12601"/>
                </a:moveTo>
                <a:cubicBezTo>
                  <a:pt x="1579" y="12576"/>
                  <a:pt x="1647" y="12606"/>
                  <a:pt x="1761" y="12601"/>
                </a:cubicBezTo>
                <a:cubicBezTo>
                  <a:pt x="1952" y="12593"/>
                  <a:pt x="2140" y="12556"/>
                  <a:pt x="2332" y="12551"/>
                </a:cubicBezTo>
                <a:cubicBezTo>
                  <a:pt x="2467" y="12548"/>
                  <a:pt x="2593" y="12526"/>
                  <a:pt x="2729" y="12526"/>
                </a:cubicBezTo>
                <a:cubicBezTo>
                  <a:pt x="2864" y="12526"/>
                  <a:pt x="2992" y="12510"/>
                  <a:pt x="3125" y="12502"/>
                </a:cubicBezTo>
                <a:cubicBezTo>
                  <a:pt x="3449" y="12483"/>
                  <a:pt x="3771" y="12524"/>
                  <a:pt x="4093" y="12477"/>
                </a:cubicBezTo>
                <a:cubicBezTo>
                  <a:pt x="4291" y="12448"/>
                  <a:pt x="4489" y="12412"/>
                  <a:pt x="4688" y="12402"/>
                </a:cubicBezTo>
                <a:cubicBezTo>
                  <a:pt x="4941" y="12389"/>
                  <a:pt x="5180" y="12324"/>
                  <a:pt x="5432" y="12303"/>
                </a:cubicBezTo>
                <a:cubicBezTo>
                  <a:pt x="5573" y="12291"/>
                  <a:pt x="5712" y="12281"/>
                  <a:pt x="5854" y="12278"/>
                </a:cubicBezTo>
                <a:cubicBezTo>
                  <a:pt x="5979" y="12275"/>
                  <a:pt x="6127" y="12286"/>
                  <a:pt x="6251" y="12303"/>
                </a:cubicBezTo>
                <a:cubicBezTo>
                  <a:pt x="6291" y="12309"/>
                  <a:pt x="6331" y="12322"/>
                  <a:pt x="6375" y="123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523880" y="4267080"/>
          <a:ext cx="1600200" cy="776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4267080"/>
                    <a:ext cx="16002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562720" y="4343400"/>
          <a:ext cx="1600200" cy="763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4343400"/>
                    <a:ext cx="16002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027240" y="1446120"/>
            <a:ext cx="1384560" cy="1063800"/>
          </a:xfrm>
          <a:custGeom>
            <a:avLst/>
            <a:gdLst/>
            <a:ahLst/>
            <a:rect l="l" t="t" r="r" b="b"/>
            <a:pathLst>
              <a:path w="3846" h="2953">
                <a:moveTo>
                  <a:pt x="8657" y="6152"/>
                </a:moveTo>
                <a:cubicBezTo>
                  <a:pt x="8669" y="6393"/>
                  <a:pt x="8712" y="6631"/>
                  <a:pt x="8731" y="6871"/>
                </a:cubicBezTo>
                <a:cubicBezTo>
                  <a:pt x="8731" y="6904"/>
                  <a:pt x="8731" y="6937"/>
                  <a:pt x="8731" y="6970"/>
                </a:cubicBezTo>
              </a:path>
              <a:path w="3846" h="2953">
                <a:moveTo>
                  <a:pt x="8954" y="6276"/>
                </a:moveTo>
                <a:cubicBezTo>
                  <a:pt x="9031" y="6188"/>
                  <a:pt x="9042" y="6192"/>
                  <a:pt x="9153" y="6201"/>
                </a:cubicBezTo>
                <a:cubicBezTo>
                  <a:pt x="9184" y="6433"/>
                  <a:pt x="9108" y="6549"/>
                  <a:pt x="8954" y="6722"/>
                </a:cubicBezTo>
                <a:cubicBezTo>
                  <a:pt x="8929" y="6747"/>
                  <a:pt x="8905" y="6771"/>
                  <a:pt x="8880" y="6796"/>
                </a:cubicBezTo>
                <a:cubicBezTo>
                  <a:pt x="9049" y="6756"/>
                  <a:pt x="9211" y="6702"/>
                  <a:pt x="9376" y="6648"/>
                </a:cubicBezTo>
              </a:path>
              <a:path w="3846" h="2953">
                <a:moveTo>
                  <a:pt x="8409" y="5879"/>
                </a:moveTo>
                <a:cubicBezTo>
                  <a:pt x="8693" y="5853"/>
                  <a:pt x="8954" y="5784"/>
                  <a:pt x="9227" y="5705"/>
                </a:cubicBezTo>
                <a:cubicBezTo>
                  <a:pt x="9260" y="5697"/>
                  <a:pt x="9294" y="5688"/>
                  <a:pt x="9327" y="5680"/>
                </a:cubicBezTo>
              </a:path>
              <a:path w="3846" h="2953">
                <a:moveTo>
                  <a:pt x="8756" y="4887"/>
                </a:moveTo>
                <a:cubicBezTo>
                  <a:pt x="8662" y="5024"/>
                  <a:pt x="8613" y="5113"/>
                  <a:pt x="8607" y="5283"/>
                </a:cubicBezTo>
                <a:cubicBezTo>
                  <a:pt x="8603" y="5403"/>
                  <a:pt x="8621" y="5477"/>
                  <a:pt x="8756" y="5507"/>
                </a:cubicBezTo>
                <a:cubicBezTo>
                  <a:pt x="8860" y="5530"/>
                  <a:pt x="8896" y="5498"/>
                  <a:pt x="8954" y="5432"/>
                </a:cubicBezTo>
                <a:cubicBezTo>
                  <a:pt x="9021" y="5356"/>
                  <a:pt x="9014" y="5340"/>
                  <a:pt x="9004" y="5259"/>
                </a:cubicBezTo>
                <a:cubicBezTo>
                  <a:pt x="9000" y="5225"/>
                  <a:pt x="8928" y="5117"/>
                  <a:pt x="8880" y="5159"/>
                </a:cubicBezTo>
                <a:cubicBezTo>
                  <a:pt x="8835" y="5198"/>
                  <a:pt x="8830" y="5318"/>
                  <a:pt x="8830" y="5383"/>
                </a:cubicBezTo>
                <a:cubicBezTo>
                  <a:pt x="8830" y="5452"/>
                  <a:pt x="8835" y="5477"/>
                  <a:pt x="8880" y="5531"/>
                </a:cubicBezTo>
              </a:path>
              <a:path w="3846" h="2953">
                <a:moveTo>
                  <a:pt x="9475" y="5531"/>
                </a:moveTo>
                <a:cubicBezTo>
                  <a:pt x="9475" y="5663"/>
                  <a:pt x="9642" y="5517"/>
                  <a:pt x="9699" y="5482"/>
                </a:cubicBezTo>
              </a:path>
              <a:path w="3846" h="2953">
                <a:moveTo>
                  <a:pt x="9550" y="5358"/>
                </a:moveTo>
                <a:lnTo>
                  <a:pt x="9550" y="5358"/>
                </a:lnTo>
              </a:path>
              <a:path w="3846" h="2953">
                <a:moveTo>
                  <a:pt x="9624" y="5804"/>
                </a:moveTo>
                <a:lnTo>
                  <a:pt x="9624" y="5804"/>
                </a:lnTo>
              </a:path>
              <a:path w="3846" h="2953">
                <a:moveTo>
                  <a:pt x="9773" y="4961"/>
                </a:moveTo>
                <a:cubicBezTo>
                  <a:pt x="9859" y="5047"/>
                  <a:pt x="9860" y="5235"/>
                  <a:pt x="9996" y="5259"/>
                </a:cubicBezTo>
                <a:cubicBezTo>
                  <a:pt x="10126" y="5282"/>
                  <a:pt x="10088" y="5073"/>
                  <a:pt x="10071" y="5358"/>
                </a:cubicBezTo>
              </a:path>
              <a:path w="3846" h="2953">
                <a:moveTo>
                  <a:pt x="9897" y="5581"/>
                </a:moveTo>
                <a:cubicBezTo>
                  <a:pt x="10038" y="5549"/>
                  <a:pt x="10183" y="5489"/>
                  <a:pt x="10319" y="5432"/>
                </a:cubicBezTo>
              </a:path>
              <a:path w="3846" h="2953">
                <a:moveTo>
                  <a:pt x="10145" y="5755"/>
                </a:moveTo>
                <a:cubicBezTo>
                  <a:pt x="10097" y="5908"/>
                  <a:pt x="9999" y="6167"/>
                  <a:pt x="10096" y="6325"/>
                </a:cubicBezTo>
                <a:cubicBezTo>
                  <a:pt x="10112" y="6325"/>
                  <a:pt x="10129" y="6325"/>
                  <a:pt x="10145" y="6325"/>
                </a:cubicBezTo>
                <a:cubicBezTo>
                  <a:pt x="10257" y="6229"/>
                  <a:pt x="10273" y="6210"/>
                  <a:pt x="10294" y="6052"/>
                </a:cubicBezTo>
                <a:cubicBezTo>
                  <a:pt x="10269" y="6062"/>
                  <a:pt x="10080" y="6213"/>
                  <a:pt x="10195" y="6251"/>
                </a:cubicBezTo>
                <a:cubicBezTo>
                  <a:pt x="10211" y="6243"/>
                  <a:pt x="10228" y="6234"/>
                  <a:pt x="10244" y="6226"/>
                </a:cubicBezTo>
              </a:path>
              <a:path w="3846" h="2953">
                <a:moveTo>
                  <a:pt x="10468" y="5556"/>
                </a:moveTo>
                <a:cubicBezTo>
                  <a:pt x="10533" y="5534"/>
                  <a:pt x="10548" y="5526"/>
                  <a:pt x="10592" y="5531"/>
                </a:cubicBezTo>
              </a:path>
              <a:path w="3846" h="2953">
                <a:moveTo>
                  <a:pt x="10567" y="5730"/>
                </a:moveTo>
                <a:cubicBezTo>
                  <a:pt x="10600" y="5713"/>
                  <a:pt x="10633" y="5697"/>
                  <a:pt x="10666" y="5680"/>
                </a:cubicBezTo>
              </a:path>
              <a:path w="3846" h="2953">
                <a:moveTo>
                  <a:pt x="10021" y="5308"/>
                </a:moveTo>
                <a:cubicBezTo>
                  <a:pt x="10132" y="5308"/>
                  <a:pt x="10133" y="5293"/>
                  <a:pt x="10195" y="5209"/>
                </a:cubicBezTo>
                <a:cubicBezTo>
                  <a:pt x="10239" y="5150"/>
                  <a:pt x="10178" y="5095"/>
                  <a:pt x="10120" y="5135"/>
                </a:cubicBezTo>
                <a:cubicBezTo>
                  <a:pt x="10055" y="5180"/>
                  <a:pt x="10083" y="5227"/>
                  <a:pt x="10096" y="5283"/>
                </a:cubicBezTo>
              </a:path>
              <a:path w="3846" h="2953">
                <a:moveTo>
                  <a:pt x="10889" y="4539"/>
                </a:moveTo>
                <a:cubicBezTo>
                  <a:pt x="10990" y="4691"/>
                  <a:pt x="11052" y="4901"/>
                  <a:pt x="11088" y="5085"/>
                </a:cubicBezTo>
                <a:cubicBezTo>
                  <a:pt x="11088" y="5110"/>
                  <a:pt x="11088" y="5134"/>
                  <a:pt x="11088" y="5159"/>
                </a:cubicBezTo>
              </a:path>
              <a:path w="3846" h="2953">
                <a:moveTo>
                  <a:pt x="10864" y="5457"/>
                </a:moveTo>
                <a:cubicBezTo>
                  <a:pt x="11064" y="5404"/>
                  <a:pt x="11275" y="5384"/>
                  <a:pt x="11485" y="5358"/>
                </a:cubicBezTo>
                <a:cubicBezTo>
                  <a:pt x="11501" y="5358"/>
                  <a:pt x="11518" y="5358"/>
                  <a:pt x="11534" y="5358"/>
                </a:cubicBezTo>
              </a:path>
              <a:path w="3846" h="2953">
                <a:moveTo>
                  <a:pt x="11137" y="5804"/>
                </a:moveTo>
                <a:cubicBezTo>
                  <a:pt x="11112" y="5667"/>
                  <a:pt x="11149" y="5678"/>
                  <a:pt x="11261" y="5581"/>
                </a:cubicBezTo>
                <a:cubicBezTo>
                  <a:pt x="11334" y="5714"/>
                  <a:pt x="11318" y="5857"/>
                  <a:pt x="11237" y="6003"/>
                </a:cubicBezTo>
                <a:cubicBezTo>
                  <a:pt x="11185" y="6098"/>
                  <a:pt x="11140" y="6183"/>
                  <a:pt x="11088" y="6276"/>
                </a:cubicBezTo>
                <a:cubicBezTo>
                  <a:pt x="11121" y="6376"/>
                  <a:pt x="11096" y="6206"/>
                  <a:pt x="11187" y="6176"/>
                </a:cubicBezTo>
                <a:cubicBezTo>
                  <a:pt x="11260" y="6152"/>
                  <a:pt x="11346" y="6279"/>
                  <a:pt x="11435" y="6276"/>
                </a:cubicBezTo>
                <a:cubicBezTo>
                  <a:pt x="11460" y="6268"/>
                  <a:pt x="11484" y="6259"/>
                  <a:pt x="11509" y="6251"/>
                </a:cubicBezTo>
              </a:path>
              <a:path w="3846" h="2953">
                <a:moveTo>
                  <a:pt x="10864" y="6474"/>
                </a:moveTo>
                <a:cubicBezTo>
                  <a:pt x="10994" y="6568"/>
                  <a:pt x="11094" y="6626"/>
                  <a:pt x="11286" y="6623"/>
                </a:cubicBezTo>
                <a:cubicBezTo>
                  <a:pt x="11561" y="6618"/>
                  <a:pt x="11697" y="6534"/>
                  <a:pt x="11881" y="6350"/>
                </a:cubicBezTo>
                <a:cubicBezTo>
                  <a:pt x="12133" y="6098"/>
                  <a:pt x="12254" y="5820"/>
                  <a:pt x="12254" y="5457"/>
                </a:cubicBezTo>
                <a:cubicBezTo>
                  <a:pt x="12254" y="5199"/>
                  <a:pt x="12200" y="4893"/>
                  <a:pt x="12080" y="4663"/>
                </a:cubicBezTo>
                <a:cubicBezTo>
                  <a:pt x="11964" y="4441"/>
                  <a:pt x="11778" y="4257"/>
                  <a:pt x="11559" y="4142"/>
                </a:cubicBezTo>
                <a:cubicBezTo>
                  <a:pt x="11413" y="4065"/>
                  <a:pt x="11229" y="4011"/>
                  <a:pt x="11063" y="4018"/>
                </a:cubicBezTo>
                <a:cubicBezTo>
                  <a:pt x="10899" y="4025"/>
                  <a:pt x="10790" y="4059"/>
                  <a:pt x="10666" y="4167"/>
                </a:cubicBezTo>
                <a:cubicBezTo>
                  <a:pt x="10552" y="4267"/>
                  <a:pt x="10504" y="4388"/>
                  <a:pt x="10492" y="4539"/>
                </a:cubicBezTo>
                <a:cubicBezTo>
                  <a:pt x="10475" y="4742"/>
                  <a:pt x="10497" y="4921"/>
                  <a:pt x="10567" y="5110"/>
                </a:cubicBezTo>
                <a:cubicBezTo>
                  <a:pt x="10622" y="5260"/>
                  <a:pt x="10698" y="5401"/>
                  <a:pt x="10740" y="5556"/>
                </a:cubicBezTo>
                <a:cubicBezTo>
                  <a:pt x="10785" y="5720"/>
                  <a:pt x="10820" y="5888"/>
                  <a:pt x="10864" y="6052"/>
                </a:cubicBezTo>
                <a:cubicBezTo>
                  <a:pt x="10896" y="6170"/>
                  <a:pt x="10879" y="6284"/>
                  <a:pt x="10914" y="6400"/>
                </a:cubicBezTo>
                <a:cubicBezTo>
                  <a:pt x="10939" y="6483"/>
                  <a:pt x="10970" y="6566"/>
                  <a:pt x="11038" y="6623"/>
                </a:cubicBezTo>
                <a:cubicBezTo>
                  <a:pt x="11055" y="6631"/>
                  <a:pt x="11071" y="6640"/>
                  <a:pt x="11088" y="664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7880" y="177840"/>
            <a:ext cx="1884240" cy="723960"/>
          </a:xfrm>
          <a:custGeom>
            <a:avLst/>
            <a:gdLst/>
            <a:ahLst/>
            <a:rect l="l" t="t" r="r" b="b"/>
            <a:pathLst>
              <a:path w="5235" h="2010">
                <a:moveTo>
                  <a:pt x="15156" y="719"/>
                </a:moveTo>
                <a:cubicBezTo>
                  <a:pt x="15185" y="646"/>
                  <a:pt x="15132" y="624"/>
                  <a:pt x="15056" y="595"/>
                </a:cubicBezTo>
                <a:cubicBezTo>
                  <a:pt x="14930" y="547"/>
                  <a:pt x="14899" y="625"/>
                  <a:pt x="14883" y="744"/>
                </a:cubicBezTo>
                <a:cubicBezTo>
                  <a:pt x="14883" y="769"/>
                  <a:pt x="14883" y="794"/>
                  <a:pt x="14883" y="819"/>
                </a:cubicBezTo>
                <a:cubicBezTo>
                  <a:pt x="15008" y="835"/>
                  <a:pt x="15101" y="839"/>
                  <a:pt x="15156" y="695"/>
                </a:cubicBezTo>
                <a:cubicBezTo>
                  <a:pt x="15156" y="678"/>
                  <a:pt x="15156" y="662"/>
                  <a:pt x="15156" y="645"/>
                </a:cubicBezTo>
                <a:cubicBezTo>
                  <a:pt x="15178" y="812"/>
                  <a:pt x="15156" y="991"/>
                  <a:pt x="15156" y="1166"/>
                </a:cubicBezTo>
                <a:cubicBezTo>
                  <a:pt x="15156" y="1224"/>
                  <a:pt x="15156" y="1232"/>
                  <a:pt x="15156" y="1265"/>
                </a:cubicBezTo>
              </a:path>
              <a:path w="5235" h="2010">
                <a:moveTo>
                  <a:pt x="14982" y="1761"/>
                </a:moveTo>
                <a:cubicBezTo>
                  <a:pt x="14949" y="1903"/>
                  <a:pt x="14922" y="2061"/>
                  <a:pt x="14908" y="2208"/>
                </a:cubicBezTo>
                <a:cubicBezTo>
                  <a:pt x="14899" y="2300"/>
                  <a:pt x="14866" y="2471"/>
                  <a:pt x="14982" y="2505"/>
                </a:cubicBezTo>
                <a:cubicBezTo>
                  <a:pt x="15088" y="2536"/>
                  <a:pt x="15206" y="2406"/>
                  <a:pt x="15255" y="2332"/>
                </a:cubicBezTo>
                <a:cubicBezTo>
                  <a:pt x="15279" y="2284"/>
                  <a:pt x="15287" y="2269"/>
                  <a:pt x="15280" y="2232"/>
                </a:cubicBezTo>
                <a:cubicBezTo>
                  <a:pt x="15196" y="2217"/>
                  <a:pt x="15167" y="2292"/>
                  <a:pt x="15156" y="2381"/>
                </a:cubicBezTo>
                <a:cubicBezTo>
                  <a:pt x="15149" y="2441"/>
                  <a:pt x="15133" y="2447"/>
                  <a:pt x="15180" y="2431"/>
                </a:cubicBezTo>
              </a:path>
              <a:path w="5235" h="2010">
                <a:moveTo>
                  <a:pt x="15429" y="1860"/>
                </a:moveTo>
                <a:cubicBezTo>
                  <a:pt x="15488" y="1854"/>
                  <a:pt x="15543" y="1842"/>
                  <a:pt x="15602" y="1836"/>
                </a:cubicBezTo>
              </a:path>
              <a:path w="5235" h="2010">
                <a:moveTo>
                  <a:pt x="15453" y="2034"/>
                </a:moveTo>
                <a:cubicBezTo>
                  <a:pt x="15536" y="2055"/>
                  <a:pt x="15551" y="2063"/>
                  <a:pt x="15602" y="2059"/>
                </a:cubicBezTo>
              </a:path>
              <a:path w="5235" h="2010">
                <a:moveTo>
                  <a:pt x="15429" y="893"/>
                </a:moveTo>
                <a:cubicBezTo>
                  <a:pt x="15492" y="884"/>
                  <a:pt x="15539" y="867"/>
                  <a:pt x="15602" y="843"/>
                </a:cubicBezTo>
              </a:path>
              <a:path w="5235" h="2010">
                <a:moveTo>
                  <a:pt x="15453" y="1067"/>
                </a:moveTo>
                <a:cubicBezTo>
                  <a:pt x="15508" y="1058"/>
                  <a:pt x="15551" y="1040"/>
                  <a:pt x="15602" y="1017"/>
                </a:cubicBezTo>
              </a:path>
              <a:path w="5235" h="2010">
                <a:moveTo>
                  <a:pt x="16049" y="620"/>
                </a:moveTo>
                <a:cubicBezTo>
                  <a:pt x="15925" y="620"/>
                  <a:pt x="15883" y="636"/>
                  <a:pt x="15825" y="769"/>
                </a:cubicBezTo>
                <a:cubicBezTo>
                  <a:pt x="15788" y="852"/>
                  <a:pt x="15794" y="901"/>
                  <a:pt x="15850" y="943"/>
                </a:cubicBezTo>
                <a:cubicBezTo>
                  <a:pt x="16002" y="895"/>
                  <a:pt x="16095" y="860"/>
                  <a:pt x="16148" y="695"/>
                </a:cubicBezTo>
                <a:cubicBezTo>
                  <a:pt x="16148" y="678"/>
                  <a:pt x="16148" y="662"/>
                  <a:pt x="16148" y="645"/>
                </a:cubicBezTo>
                <a:cubicBezTo>
                  <a:pt x="16137" y="843"/>
                  <a:pt x="16111" y="1044"/>
                  <a:pt x="16073" y="1240"/>
                </a:cubicBezTo>
                <a:cubicBezTo>
                  <a:pt x="16065" y="1273"/>
                  <a:pt x="16057" y="1306"/>
                  <a:pt x="16049" y="1339"/>
                </a:cubicBezTo>
              </a:path>
              <a:path w="5235" h="2010">
                <a:moveTo>
                  <a:pt x="16371" y="1116"/>
                </a:moveTo>
                <a:cubicBezTo>
                  <a:pt x="16371" y="1216"/>
                  <a:pt x="16376" y="1276"/>
                  <a:pt x="16346" y="1364"/>
                </a:cubicBezTo>
              </a:path>
              <a:path w="5235" h="2010">
                <a:moveTo>
                  <a:pt x="16867" y="719"/>
                </a:moveTo>
                <a:cubicBezTo>
                  <a:pt x="16785" y="693"/>
                  <a:pt x="16753" y="686"/>
                  <a:pt x="16694" y="719"/>
                </a:cubicBezTo>
                <a:cubicBezTo>
                  <a:pt x="16746" y="816"/>
                  <a:pt x="16909" y="860"/>
                  <a:pt x="16917" y="967"/>
                </a:cubicBezTo>
                <a:cubicBezTo>
                  <a:pt x="16925" y="1067"/>
                  <a:pt x="16841" y="1091"/>
                  <a:pt x="16768" y="1091"/>
                </a:cubicBezTo>
                <a:cubicBezTo>
                  <a:pt x="16719" y="945"/>
                  <a:pt x="16783" y="934"/>
                  <a:pt x="16867" y="819"/>
                </a:cubicBezTo>
                <a:cubicBezTo>
                  <a:pt x="16875" y="802"/>
                  <a:pt x="16884" y="786"/>
                  <a:pt x="16892" y="769"/>
                </a:cubicBezTo>
              </a:path>
              <a:path w="5235" h="2010">
                <a:moveTo>
                  <a:pt x="16495" y="843"/>
                </a:moveTo>
                <a:cubicBezTo>
                  <a:pt x="16506" y="964"/>
                  <a:pt x="16534" y="1075"/>
                  <a:pt x="16570" y="1191"/>
                </a:cubicBezTo>
              </a:path>
              <a:path w="5235" h="2010">
                <a:moveTo>
                  <a:pt x="17239" y="1315"/>
                </a:moveTo>
                <a:cubicBezTo>
                  <a:pt x="17217" y="1423"/>
                  <a:pt x="17214" y="1449"/>
                  <a:pt x="17190" y="1513"/>
                </a:cubicBezTo>
              </a:path>
              <a:path w="5235" h="2010">
                <a:moveTo>
                  <a:pt x="17338" y="819"/>
                </a:moveTo>
                <a:lnTo>
                  <a:pt x="17338" y="819"/>
                </a:lnTo>
              </a:path>
              <a:path w="5235" h="2010">
                <a:moveTo>
                  <a:pt x="17314" y="868"/>
                </a:moveTo>
                <a:cubicBezTo>
                  <a:pt x="17343" y="819"/>
                  <a:pt x="17503" y="682"/>
                  <a:pt x="17537" y="843"/>
                </a:cubicBezTo>
                <a:cubicBezTo>
                  <a:pt x="17562" y="959"/>
                  <a:pt x="17425" y="1130"/>
                  <a:pt x="17363" y="1215"/>
                </a:cubicBezTo>
                <a:cubicBezTo>
                  <a:pt x="17455" y="1233"/>
                  <a:pt x="17512" y="1215"/>
                  <a:pt x="17611" y="1191"/>
                </a:cubicBezTo>
              </a:path>
              <a:path w="5235" h="2010">
                <a:moveTo>
                  <a:pt x="17611" y="843"/>
                </a:moveTo>
                <a:cubicBezTo>
                  <a:pt x="17721" y="800"/>
                  <a:pt x="17768" y="794"/>
                  <a:pt x="17884" y="794"/>
                </a:cubicBezTo>
                <a:cubicBezTo>
                  <a:pt x="18054" y="794"/>
                  <a:pt x="17873" y="1112"/>
                  <a:pt x="17835" y="1191"/>
                </a:cubicBezTo>
                <a:cubicBezTo>
                  <a:pt x="17818" y="1216"/>
                  <a:pt x="17802" y="1240"/>
                  <a:pt x="17785" y="1265"/>
                </a:cubicBezTo>
              </a:path>
              <a:path w="5235" h="2010">
                <a:moveTo>
                  <a:pt x="18033" y="1339"/>
                </a:moveTo>
                <a:cubicBezTo>
                  <a:pt x="18048" y="1435"/>
                  <a:pt x="18046" y="1469"/>
                  <a:pt x="18008" y="1563"/>
                </a:cubicBezTo>
              </a:path>
              <a:path w="5235" h="2010">
                <a:moveTo>
                  <a:pt x="18281" y="843"/>
                </a:moveTo>
                <a:cubicBezTo>
                  <a:pt x="18313" y="785"/>
                  <a:pt x="18514" y="612"/>
                  <a:pt x="18430" y="819"/>
                </a:cubicBezTo>
                <a:cubicBezTo>
                  <a:pt x="18405" y="852"/>
                  <a:pt x="18380" y="885"/>
                  <a:pt x="18355" y="918"/>
                </a:cubicBezTo>
                <a:cubicBezTo>
                  <a:pt x="18347" y="926"/>
                  <a:pt x="18339" y="935"/>
                  <a:pt x="18331" y="943"/>
                </a:cubicBezTo>
                <a:cubicBezTo>
                  <a:pt x="18412" y="927"/>
                  <a:pt x="18618" y="882"/>
                  <a:pt x="18529" y="1067"/>
                </a:cubicBezTo>
                <a:cubicBezTo>
                  <a:pt x="18481" y="1167"/>
                  <a:pt x="18347" y="1168"/>
                  <a:pt x="18256" y="1191"/>
                </a:cubicBezTo>
              </a:path>
              <a:path w="5235" h="2010">
                <a:moveTo>
                  <a:pt x="18703" y="695"/>
                </a:moveTo>
                <a:cubicBezTo>
                  <a:pt x="18740" y="815"/>
                  <a:pt x="18726" y="926"/>
                  <a:pt x="18752" y="1042"/>
                </a:cubicBezTo>
                <a:cubicBezTo>
                  <a:pt x="18774" y="1141"/>
                  <a:pt x="18916" y="1115"/>
                  <a:pt x="18976" y="1067"/>
                </a:cubicBezTo>
                <a:cubicBezTo>
                  <a:pt x="19018" y="1003"/>
                  <a:pt x="19034" y="992"/>
                  <a:pt x="19025" y="943"/>
                </a:cubicBezTo>
                <a:cubicBezTo>
                  <a:pt x="18923" y="898"/>
                  <a:pt x="18894" y="943"/>
                  <a:pt x="18852" y="1042"/>
                </a:cubicBezTo>
                <a:cubicBezTo>
                  <a:pt x="18830" y="1107"/>
                  <a:pt x="18822" y="1122"/>
                  <a:pt x="18827" y="1166"/>
                </a:cubicBezTo>
              </a:path>
              <a:path w="5235" h="2010">
                <a:moveTo>
                  <a:pt x="19199" y="1166"/>
                </a:moveTo>
                <a:cubicBezTo>
                  <a:pt x="19192" y="1254"/>
                  <a:pt x="19163" y="1328"/>
                  <a:pt x="19149" y="1414"/>
                </a:cubicBezTo>
              </a:path>
              <a:path w="5235" h="2010">
                <a:moveTo>
                  <a:pt x="19372" y="744"/>
                </a:moveTo>
                <a:cubicBezTo>
                  <a:pt x="19340" y="866"/>
                  <a:pt x="19341" y="911"/>
                  <a:pt x="19496" y="893"/>
                </a:cubicBezTo>
                <a:cubicBezTo>
                  <a:pt x="19580" y="872"/>
                  <a:pt x="19600" y="871"/>
                  <a:pt x="19645" y="843"/>
                </a:cubicBezTo>
              </a:path>
              <a:path w="5235" h="2010">
                <a:moveTo>
                  <a:pt x="19571" y="645"/>
                </a:moveTo>
                <a:cubicBezTo>
                  <a:pt x="19604" y="814"/>
                  <a:pt x="19621" y="968"/>
                  <a:pt x="19621" y="1141"/>
                </a:cubicBezTo>
              </a:path>
              <a:path w="5235" h="2010">
                <a:moveTo>
                  <a:pt x="20017" y="620"/>
                </a:moveTo>
                <a:cubicBezTo>
                  <a:pt x="19897" y="640"/>
                  <a:pt x="19818" y="642"/>
                  <a:pt x="19794" y="769"/>
                </a:cubicBezTo>
                <a:cubicBezTo>
                  <a:pt x="19794" y="794"/>
                  <a:pt x="19794" y="818"/>
                  <a:pt x="19794" y="843"/>
                </a:cubicBezTo>
                <a:cubicBezTo>
                  <a:pt x="19921" y="788"/>
                  <a:pt x="19968" y="771"/>
                  <a:pt x="20092" y="819"/>
                </a:cubicBezTo>
                <a:cubicBezTo>
                  <a:pt x="20118" y="983"/>
                  <a:pt x="20067" y="1097"/>
                  <a:pt x="19893" y="1166"/>
                </a:cubicBezTo>
                <a:cubicBezTo>
                  <a:pt x="19814" y="1166"/>
                  <a:pt x="19786" y="1162"/>
                  <a:pt x="19769" y="1091"/>
                </a:cubicBezTo>
              </a:path>
              <a:path w="5235" h="2010">
                <a:moveTo>
                  <a:pt x="16446" y="1166"/>
                </a:moveTo>
                <a:cubicBezTo>
                  <a:pt x="16479" y="1208"/>
                  <a:pt x="16517" y="1271"/>
                  <a:pt x="16570" y="1290"/>
                </a:cubicBezTo>
                <a:cubicBezTo>
                  <a:pt x="16670" y="1326"/>
                  <a:pt x="16830" y="1281"/>
                  <a:pt x="16917" y="1240"/>
                </a:cubicBezTo>
                <a:cubicBezTo>
                  <a:pt x="16997" y="1203"/>
                  <a:pt x="17103" y="1123"/>
                  <a:pt x="17140" y="1042"/>
                </a:cubicBezTo>
                <a:cubicBezTo>
                  <a:pt x="17187" y="938"/>
                  <a:pt x="17203" y="783"/>
                  <a:pt x="17214" y="670"/>
                </a:cubicBezTo>
                <a:cubicBezTo>
                  <a:pt x="17224" y="562"/>
                  <a:pt x="17182" y="524"/>
                  <a:pt x="17066" y="496"/>
                </a:cubicBezTo>
                <a:cubicBezTo>
                  <a:pt x="16950" y="468"/>
                  <a:pt x="16781" y="495"/>
                  <a:pt x="16669" y="521"/>
                </a:cubicBezTo>
                <a:cubicBezTo>
                  <a:pt x="16581" y="541"/>
                  <a:pt x="16411" y="579"/>
                  <a:pt x="16396" y="695"/>
                </a:cubicBezTo>
                <a:cubicBezTo>
                  <a:pt x="16387" y="765"/>
                  <a:pt x="16349" y="1041"/>
                  <a:pt x="16396" y="1091"/>
                </a:cubicBezTo>
                <a:cubicBezTo>
                  <a:pt x="16471" y="1171"/>
                  <a:pt x="16498" y="1163"/>
                  <a:pt x="16545" y="1265"/>
                </a:cubicBezTo>
              </a:path>
              <a:path w="5235" h="2010">
                <a:moveTo>
                  <a:pt x="17314" y="2381"/>
                </a:moveTo>
                <a:cubicBezTo>
                  <a:pt x="17413" y="2426"/>
                  <a:pt x="17500" y="2491"/>
                  <a:pt x="17611" y="2480"/>
                </a:cubicBezTo>
                <a:cubicBezTo>
                  <a:pt x="17743" y="2467"/>
                  <a:pt x="17846" y="2363"/>
                  <a:pt x="17909" y="2257"/>
                </a:cubicBezTo>
                <a:cubicBezTo>
                  <a:pt x="17967" y="2161"/>
                  <a:pt x="18004" y="2045"/>
                  <a:pt x="18008" y="1935"/>
                </a:cubicBezTo>
                <a:cubicBezTo>
                  <a:pt x="18012" y="1839"/>
                  <a:pt x="18009" y="1770"/>
                  <a:pt x="17959" y="1687"/>
                </a:cubicBezTo>
                <a:cubicBezTo>
                  <a:pt x="17891" y="1575"/>
                  <a:pt x="17863" y="1549"/>
                  <a:pt x="17735" y="1513"/>
                </a:cubicBezTo>
                <a:cubicBezTo>
                  <a:pt x="17612" y="1478"/>
                  <a:pt x="17453" y="1467"/>
                  <a:pt x="17338" y="1538"/>
                </a:cubicBezTo>
                <a:cubicBezTo>
                  <a:pt x="17263" y="1584"/>
                  <a:pt x="17186" y="1753"/>
                  <a:pt x="17165" y="1836"/>
                </a:cubicBezTo>
                <a:cubicBezTo>
                  <a:pt x="17138" y="1945"/>
                  <a:pt x="17148" y="2155"/>
                  <a:pt x="17190" y="2257"/>
                </a:cubicBezTo>
                <a:cubicBezTo>
                  <a:pt x="17224" y="2338"/>
                  <a:pt x="17303" y="2396"/>
                  <a:pt x="17363" y="2456"/>
                </a:cubicBezTo>
              </a:path>
              <a:path w="5235" h="2010">
                <a:moveTo>
                  <a:pt x="17884" y="1736"/>
                </a:moveTo>
                <a:lnTo>
                  <a:pt x="17884" y="1736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5640" y="608040"/>
            <a:ext cx="1277640" cy="303120"/>
          </a:xfrm>
          <a:custGeom>
            <a:avLst/>
            <a:gdLst/>
            <a:ahLst/>
            <a:rect l="l" t="t" r="r" b="b"/>
            <a:pathLst>
              <a:path w="3548" h="844">
                <a:moveTo>
                  <a:pt x="15925" y="1712"/>
                </a:moveTo>
                <a:cubicBezTo>
                  <a:pt x="15911" y="1755"/>
                  <a:pt x="15894" y="2034"/>
                  <a:pt x="15875" y="2158"/>
                </a:cubicBezTo>
                <a:cubicBezTo>
                  <a:pt x="15860" y="2255"/>
                  <a:pt x="15839" y="2221"/>
                  <a:pt x="15900" y="2282"/>
                </a:cubicBezTo>
                <a:cubicBezTo>
                  <a:pt x="16006" y="2273"/>
                  <a:pt x="16106" y="2255"/>
                  <a:pt x="16173" y="2158"/>
                </a:cubicBezTo>
                <a:cubicBezTo>
                  <a:pt x="16173" y="2107"/>
                  <a:pt x="16179" y="2074"/>
                  <a:pt x="16197" y="2034"/>
                </a:cubicBezTo>
                <a:cubicBezTo>
                  <a:pt x="16094" y="2034"/>
                  <a:pt x="16064" y="2082"/>
                  <a:pt x="16049" y="2183"/>
                </a:cubicBezTo>
                <a:cubicBezTo>
                  <a:pt x="16049" y="2199"/>
                  <a:pt x="16049" y="2216"/>
                  <a:pt x="16049" y="2232"/>
                </a:cubicBezTo>
              </a:path>
              <a:path w="3548" h="844">
                <a:moveTo>
                  <a:pt x="16321" y="2183"/>
                </a:moveTo>
                <a:cubicBezTo>
                  <a:pt x="16369" y="2278"/>
                  <a:pt x="16371" y="2325"/>
                  <a:pt x="16371" y="2431"/>
                </a:cubicBezTo>
              </a:path>
              <a:path w="3548" h="844">
                <a:moveTo>
                  <a:pt x="16495" y="1836"/>
                </a:moveTo>
                <a:cubicBezTo>
                  <a:pt x="16521" y="1965"/>
                  <a:pt x="16565" y="2097"/>
                  <a:pt x="16594" y="2232"/>
                </a:cubicBezTo>
              </a:path>
              <a:path w="3548" h="844">
                <a:moveTo>
                  <a:pt x="16743" y="1885"/>
                </a:moveTo>
                <a:cubicBezTo>
                  <a:pt x="16888" y="1919"/>
                  <a:pt x="16975" y="1962"/>
                  <a:pt x="16867" y="2133"/>
                </a:cubicBezTo>
                <a:cubicBezTo>
                  <a:pt x="16821" y="2179"/>
                  <a:pt x="16807" y="2192"/>
                  <a:pt x="16793" y="2232"/>
                </a:cubicBezTo>
                <a:cubicBezTo>
                  <a:pt x="16851" y="2232"/>
                  <a:pt x="16908" y="2232"/>
                  <a:pt x="16966" y="2232"/>
                </a:cubicBezTo>
              </a:path>
              <a:path w="3548" h="844">
                <a:moveTo>
                  <a:pt x="17115" y="2332"/>
                </a:moveTo>
                <a:cubicBezTo>
                  <a:pt x="17138" y="2422"/>
                  <a:pt x="17146" y="2446"/>
                  <a:pt x="17140" y="2505"/>
                </a:cubicBezTo>
              </a:path>
              <a:path w="3548" h="844">
                <a:moveTo>
                  <a:pt x="17264" y="1885"/>
                </a:moveTo>
                <a:cubicBezTo>
                  <a:pt x="17298" y="2001"/>
                  <a:pt x="17350" y="2113"/>
                  <a:pt x="17363" y="2232"/>
                </a:cubicBezTo>
              </a:path>
              <a:path w="3548" h="844">
                <a:moveTo>
                  <a:pt x="17686" y="1786"/>
                </a:moveTo>
                <a:cubicBezTo>
                  <a:pt x="17602" y="1803"/>
                  <a:pt x="17534" y="1862"/>
                  <a:pt x="17462" y="1910"/>
                </a:cubicBezTo>
                <a:cubicBezTo>
                  <a:pt x="17515" y="2016"/>
                  <a:pt x="17649" y="2054"/>
                  <a:pt x="17711" y="2158"/>
                </a:cubicBezTo>
                <a:cubicBezTo>
                  <a:pt x="17711" y="2175"/>
                  <a:pt x="17711" y="2191"/>
                  <a:pt x="17711" y="2208"/>
                </a:cubicBezTo>
                <a:cubicBezTo>
                  <a:pt x="17565" y="2273"/>
                  <a:pt x="17536" y="2197"/>
                  <a:pt x="17587" y="2034"/>
                </a:cubicBezTo>
                <a:cubicBezTo>
                  <a:pt x="17628" y="1951"/>
                  <a:pt x="17636" y="1935"/>
                  <a:pt x="17661" y="1885"/>
                </a:cubicBezTo>
              </a:path>
              <a:path w="3548" h="844">
                <a:moveTo>
                  <a:pt x="17859" y="2381"/>
                </a:moveTo>
                <a:cubicBezTo>
                  <a:pt x="17887" y="2353"/>
                  <a:pt x="17896" y="2340"/>
                  <a:pt x="17884" y="2307"/>
                </a:cubicBezTo>
                <a:cubicBezTo>
                  <a:pt x="17906" y="2399"/>
                  <a:pt x="17911" y="2440"/>
                  <a:pt x="17884" y="2530"/>
                </a:cubicBezTo>
              </a:path>
              <a:path w="3548" h="844">
                <a:moveTo>
                  <a:pt x="18058" y="1860"/>
                </a:moveTo>
                <a:cubicBezTo>
                  <a:pt x="18158" y="1848"/>
                  <a:pt x="18287" y="1798"/>
                  <a:pt x="18306" y="1960"/>
                </a:cubicBezTo>
                <a:cubicBezTo>
                  <a:pt x="18325" y="2119"/>
                  <a:pt x="18240" y="2170"/>
                  <a:pt x="18132" y="2232"/>
                </a:cubicBezTo>
                <a:cubicBezTo>
                  <a:pt x="18082" y="2224"/>
                  <a:pt x="18009" y="2146"/>
                  <a:pt x="18083" y="2084"/>
                </a:cubicBezTo>
                <a:cubicBezTo>
                  <a:pt x="18192" y="1994"/>
                  <a:pt x="18319" y="2144"/>
                  <a:pt x="18380" y="2208"/>
                </a:cubicBezTo>
                <a:cubicBezTo>
                  <a:pt x="18388" y="2216"/>
                  <a:pt x="18397" y="2224"/>
                  <a:pt x="18405" y="2232"/>
                </a:cubicBezTo>
              </a:path>
              <a:path w="3548" h="844">
                <a:moveTo>
                  <a:pt x="18504" y="1811"/>
                </a:moveTo>
                <a:cubicBezTo>
                  <a:pt x="18504" y="1930"/>
                  <a:pt x="18491" y="2015"/>
                  <a:pt x="18653" y="2009"/>
                </a:cubicBezTo>
                <a:cubicBezTo>
                  <a:pt x="18678" y="2001"/>
                  <a:pt x="18703" y="1992"/>
                  <a:pt x="18728" y="1984"/>
                </a:cubicBezTo>
              </a:path>
              <a:path w="3548" h="844">
                <a:moveTo>
                  <a:pt x="18653" y="1687"/>
                </a:moveTo>
                <a:cubicBezTo>
                  <a:pt x="18638" y="1860"/>
                  <a:pt x="18627" y="2034"/>
                  <a:pt x="18653" y="2208"/>
                </a:cubicBezTo>
                <a:cubicBezTo>
                  <a:pt x="18661" y="2233"/>
                  <a:pt x="18670" y="2257"/>
                  <a:pt x="18678" y="2282"/>
                </a:cubicBezTo>
              </a:path>
              <a:path w="3548" h="844">
                <a:moveTo>
                  <a:pt x="18926" y="2332"/>
                </a:moveTo>
                <a:cubicBezTo>
                  <a:pt x="18947" y="2414"/>
                  <a:pt x="18955" y="2429"/>
                  <a:pt x="18951" y="2480"/>
                </a:cubicBezTo>
              </a:path>
              <a:path w="3548" h="844">
                <a:moveTo>
                  <a:pt x="19149" y="1860"/>
                </a:moveTo>
                <a:cubicBezTo>
                  <a:pt x="19295" y="1752"/>
                  <a:pt x="19263" y="1887"/>
                  <a:pt x="19248" y="2009"/>
                </a:cubicBezTo>
                <a:cubicBezTo>
                  <a:pt x="19240" y="2026"/>
                  <a:pt x="19232" y="2042"/>
                  <a:pt x="19224" y="2059"/>
                </a:cubicBezTo>
                <a:cubicBezTo>
                  <a:pt x="19339" y="2014"/>
                  <a:pt x="19495" y="2030"/>
                  <a:pt x="19348" y="2183"/>
                </a:cubicBezTo>
                <a:cubicBezTo>
                  <a:pt x="19277" y="2257"/>
                  <a:pt x="19229" y="2234"/>
                  <a:pt x="19149" y="220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72200" y="561960"/>
            <a:ext cx="492120" cy="277920"/>
          </a:xfrm>
          <a:custGeom>
            <a:avLst/>
            <a:gdLst/>
            <a:ahLst/>
            <a:rect l="l" t="t" r="r" b="b"/>
            <a:pathLst>
              <a:path w="1366" h="770">
                <a:moveTo>
                  <a:pt x="19794" y="1736"/>
                </a:moveTo>
                <a:cubicBezTo>
                  <a:pt x="19733" y="1722"/>
                  <a:pt x="19640" y="1901"/>
                  <a:pt x="19645" y="2059"/>
                </a:cubicBezTo>
                <a:cubicBezTo>
                  <a:pt x="19650" y="2208"/>
                  <a:pt x="19835" y="2162"/>
                  <a:pt x="19893" y="2084"/>
                </a:cubicBezTo>
                <a:cubicBezTo>
                  <a:pt x="19994" y="1948"/>
                  <a:pt x="19958" y="1820"/>
                  <a:pt x="19819" y="1761"/>
                </a:cubicBezTo>
                <a:cubicBezTo>
                  <a:pt x="19794" y="1753"/>
                  <a:pt x="19770" y="1744"/>
                  <a:pt x="19745" y="1736"/>
                </a:cubicBezTo>
              </a:path>
              <a:path w="1366" h="770">
                <a:moveTo>
                  <a:pt x="20166" y="2133"/>
                </a:moveTo>
                <a:cubicBezTo>
                  <a:pt x="20166" y="2199"/>
                  <a:pt x="20166" y="2266"/>
                  <a:pt x="20166" y="2332"/>
                </a:cubicBezTo>
              </a:path>
              <a:path w="1366" h="770">
                <a:moveTo>
                  <a:pt x="20340" y="1588"/>
                </a:moveTo>
                <a:cubicBezTo>
                  <a:pt x="20536" y="1560"/>
                  <a:pt x="20501" y="1622"/>
                  <a:pt x="20439" y="1786"/>
                </a:cubicBezTo>
                <a:cubicBezTo>
                  <a:pt x="20422" y="1794"/>
                  <a:pt x="20406" y="1803"/>
                  <a:pt x="20389" y="1811"/>
                </a:cubicBezTo>
                <a:cubicBezTo>
                  <a:pt x="20587" y="1784"/>
                  <a:pt x="20635" y="1883"/>
                  <a:pt x="20489" y="2059"/>
                </a:cubicBezTo>
                <a:cubicBezTo>
                  <a:pt x="20396" y="2128"/>
                  <a:pt x="20371" y="2153"/>
                  <a:pt x="20290" y="2133"/>
                </a:cubicBezTo>
              </a:path>
              <a:path w="1366" h="770">
                <a:moveTo>
                  <a:pt x="20613" y="1588"/>
                </a:moveTo>
                <a:cubicBezTo>
                  <a:pt x="20637" y="1685"/>
                  <a:pt x="20674" y="1952"/>
                  <a:pt x="20737" y="2034"/>
                </a:cubicBezTo>
                <a:cubicBezTo>
                  <a:pt x="20802" y="2118"/>
                  <a:pt x="20960" y="1956"/>
                  <a:pt x="20985" y="1910"/>
                </a:cubicBezTo>
                <a:cubicBezTo>
                  <a:pt x="21046" y="1798"/>
                  <a:pt x="20983" y="1783"/>
                  <a:pt x="20886" y="1761"/>
                </a:cubicBezTo>
                <a:cubicBezTo>
                  <a:pt x="20824" y="1864"/>
                  <a:pt x="20825" y="1938"/>
                  <a:pt x="20861" y="20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02160" y="1517760"/>
            <a:ext cx="376200" cy="831600"/>
          </a:xfrm>
          <a:custGeom>
            <a:avLst/>
            <a:gdLst/>
            <a:ahLst/>
            <a:rect l="l" t="t" r="r" b="b"/>
            <a:pathLst>
              <a:path w="1043" h="2308">
                <a:moveTo>
                  <a:pt x="15379" y="4663"/>
                </a:moveTo>
                <a:lnTo>
                  <a:pt x="15379" y="4663"/>
                </a:lnTo>
              </a:path>
              <a:path w="1043" h="2308">
                <a:moveTo>
                  <a:pt x="15528" y="5879"/>
                </a:moveTo>
                <a:cubicBezTo>
                  <a:pt x="15598" y="5959"/>
                  <a:pt x="15642" y="6018"/>
                  <a:pt x="15701" y="6102"/>
                </a:cubicBezTo>
              </a:path>
              <a:path w="1043" h="2308">
                <a:moveTo>
                  <a:pt x="15701" y="5755"/>
                </a:moveTo>
                <a:cubicBezTo>
                  <a:pt x="15634" y="5876"/>
                  <a:pt x="15581" y="6020"/>
                  <a:pt x="15528" y="6152"/>
                </a:cubicBezTo>
              </a:path>
              <a:path w="1043" h="2308">
                <a:moveTo>
                  <a:pt x="15131" y="6176"/>
                </a:moveTo>
                <a:cubicBezTo>
                  <a:pt x="15162" y="6114"/>
                  <a:pt x="15166" y="6103"/>
                  <a:pt x="15255" y="6077"/>
                </a:cubicBezTo>
                <a:cubicBezTo>
                  <a:pt x="15264" y="6238"/>
                  <a:pt x="15226" y="6349"/>
                  <a:pt x="15106" y="6474"/>
                </a:cubicBezTo>
                <a:cubicBezTo>
                  <a:pt x="15089" y="6482"/>
                  <a:pt x="15073" y="6491"/>
                  <a:pt x="15056" y="6499"/>
                </a:cubicBezTo>
                <a:cubicBezTo>
                  <a:pt x="15144" y="6509"/>
                  <a:pt x="15200" y="6464"/>
                  <a:pt x="15304" y="6449"/>
                </a:cubicBezTo>
              </a:path>
              <a:path w="1043" h="2308">
                <a:moveTo>
                  <a:pt x="15007" y="5928"/>
                </a:moveTo>
                <a:cubicBezTo>
                  <a:pt x="15127" y="5964"/>
                  <a:pt x="15228" y="5935"/>
                  <a:pt x="15354" y="5928"/>
                </a:cubicBezTo>
                <a:cubicBezTo>
                  <a:pt x="15362" y="5928"/>
                  <a:pt x="15371" y="5928"/>
                  <a:pt x="15379" y="5928"/>
                </a:cubicBezTo>
              </a:path>
              <a:path w="1043" h="2308">
                <a:moveTo>
                  <a:pt x="15131" y="5581"/>
                </a:moveTo>
                <a:cubicBezTo>
                  <a:pt x="15194" y="5518"/>
                  <a:pt x="15204" y="5501"/>
                  <a:pt x="15255" y="5482"/>
                </a:cubicBezTo>
                <a:cubicBezTo>
                  <a:pt x="15220" y="5598"/>
                  <a:pt x="15206" y="5654"/>
                  <a:pt x="15131" y="5755"/>
                </a:cubicBezTo>
                <a:cubicBezTo>
                  <a:pt x="15214" y="5743"/>
                  <a:pt x="15296" y="5717"/>
                  <a:pt x="15379" y="5705"/>
                </a:cubicBezTo>
              </a:path>
              <a:path w="1043" h="2308">
                <a:moveTo>
                  <a:pt x="15453" y="4291"/>
                </a:moveTo>
                <a:cubicBezTo>
                  <a:pt x="15423" y="4472"/>
                  <a:pt x="15397" y="4654"/>
                  <a:pt x="15379" y="4837"/>
                </a:cubicBezTo>
              </a:path>
              <a:path w="1043" h="2308">
                <a:moveTo>
                  <a:pt x="15850" y="4217"/>
                </a:moveTo>
                <a:cubicBezTo>
                  <a:pt x="15772" y="4397"/>
                  <a:pt x="15703" y="4564"/>
                  <a:pt x="15776" y="4738"/>
                </a:cubicBezTo>
                <a:cubicBezTo>
                  <a:pt x="15927" y="4725"/>
                  <a:pt x="16083" y="4589"/>
                  <a:pt x="16049" y="4390"/>
                </a:cubicBezTo>
                <a:cubicBezTo>
                  <a:pt x="16034" y="4300"/>
                  <a:pt x="15940" y="4252"/>
                  <a:pt x="15875" y="421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19920" y="1955880"/>
            <a:ext cx="260280" cy="536400"/>
          </a:xfrm>
          <a:custGeom>
            <a:avLst/>
            <a:gdLst/>
            <a:ahLst/>
            <a:rect l="l" t="t" r="r" b="b"/>
            <a:pathLst>
              <a:path w="720" h="1490">
                <a:moveTo>
                  <a:pt x="19248" y="5482"/>
                </a:moveTo>
                <a:cubicBezTo>
                  <a:pt x="19248" y="5394"/>
                  <a:pt x="19248" y="5907"/>
                  <a:pt x="19248" y="6003"/>
                </a:cubicBezTo>
                <a:cubicBezTo>
                  <a:pt x="19248" y="6028"/>
                  <a:pt x="19248" y="6052"/>
                  <a:pt x="19248" y="6077"/>
                </a:cubicBezTo>
              </a:path>
              <a:path w="720" h="1490">
                <a:moveTo>
                  <a:pt x="19645" y="5482"/>
                </a:moveTo>
                <a:cubicBezTo>
                  <a:pt x="19576" y="5647"/>
                  <a:pt x="19564" y="5729"/>
                  <a:pt x="19571" y="5904"/>
                </a:cubicBezTo>
                <a:cubicBezTo>
                  <a:pt x="19696" y="5923"/>
                  <a:pt x="20087" y="5867"/>
                  <a:pt x="19943" y="5606"/>
                </a:cubicBezTo>
                <a:cubicBezTo>
                  <a:pt x="19824" y="5534"/>
                  <a:pt x="19789" y="5508"/>
                  <a:pt x="19695" y="5556"/>
                </a:cubicBezTo>
              </a:path>
              <a:path w="720" h="1490">
                <a:moveTo>
                  <a:pt x="19224" y="6350"/>
                </a:moveTo>
                <a:cubicBezTo>
                  <a:pt x="19456" y="6273"/>
                  <a:pt x="19680" y="6227"/>
                  <a:pt x="19918" y="6176"/>
                </a:cubicBezTo>
              </a:path>
              <a:path w="720" h="1490">
                <a:moveTo>
                  <a:pt x="19372" y="6524"/>
                </a:moveTo>
                <a:cubicBezTo>
                  <a:pt x="19358" y="6658"/>
                  <a:pt x="19305" y="6789"/>
                  <a:pt x="19273" y="6921"/>
                </a:cubicBezTo>
              </a:path>
              <a:path w="720" h="1490">
                <a:moveTo>
                  <a:pt x="19869" y="6350"/>
                </a:moveTo>
                <a:cubicBezTo>
                  <a:pt x="19727" y="6519"/>
                  <a:pt x="19645" y="6507"/>
                  <a:pt x="19819" y="6623"/>
                </a:cubicBezTo>
                <a:cubicBezTo>
                  <a:pt x="19900" y="6683"/>
                  <a:pt x="19923" y="6688"/>
                  <a:pt x="19943" y="6747"/>
                </a:cubicBezTo>
                <a:cubicBezTo>
                  <a:pt x="19883" y="6806"/>
                  <a:pt x="19854" y="6828"/>
                  <a:pt x="19794" y="6846"/>
                </a:cubicBezTo>
                <a:cubicBezTo>
                  <a:pt x="19760" y="6662"/>
                  <a:pt x="19882" y="6593"/>
                  <a:pt x="19943" y="6424"/>
                </a:cubicBezTo>
                <a:cubicBezTo>
                  <a:pt x="19943" y="6408"/>
                  <a:pt x="19943" y="6391"/>
                  <a:pt x="19943" y="637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48680" y="1866960"/>
            <a:ext cx="1679400" cy="606240"/>
          </a:xfrm>
          <a:custGeom>
            <a:avLst/>
            <a:gdLst/>
            <a:ahLst/>
            <a:rect l="l" t="t" r="r" b="b"/>
            <a:pathLst>
              <a:path w="4665" h="1688">
                <a:moveTo>
                  <a:pt x="21258" y="5209"/>
                </a:moveTo>
                <a:cubicBezTo>
                  <a:pt x="21274" y="5201"/>
                  <a:pt x="21291" y="5192"/>
                  <a:pt x="21307" y="5184"/>
                </a:cubicBezTo>
              </a:path>
              <a:path w="4665" h="1688">
                <a:moveTo>
                  <a:pt x="20439" y="5978"/>
                </a:moveTo>
                <a:cubicBezTo>
                  <a:pt x="20482" y="6105"/>
                  <a:pt x="20489" y="6217"/>
                  <a:pt x="20489" y="6350"/>
                </a:cubicBezTo>
              </a:path>
              <a:path w="4665" h="1688">
                <a:moveTo>
                  <a:pt x="20414" y="6201"/>
                </a:moveTo>
                <a:cubicBezTo>
                  <a:pt x="20524" y="6161"/>
                  <a:pt x="20628" y="6119"/>
                  <a:pt x="20737" y="6077"/>
                </a:cubicBezTo>
              </a:path>
              <a:path w="4665" h="1688">
                <a:moveTo>
                  <a:pt x="21084" y="5482"/>
                </a:moveTo>
                <a:cubicBezTo>
                  <a:pt x="21068" y="5650"/>
                  <a:pt x="21090" y="5880"/>
                  <a:pt x="21034" y="6028"/>
                </a:cubicBezTo>
              </a:path>
              <a:path w="4665" h="1688">
                <a:moveTo>
                  <a:pt x="21679" y="5308"/>
                </a:moveTo>
                <a:cubicBezTo>
                  <a:pt x="21527" y="5359"/>
                  <a:pt x="21463" y="5409"/>
                  <a:pt x="21431" y="5581"/>
                </a:cubicBezTo>
                <a:cubicBezTo>
                  <a:pt x="21431" y="5606"/>
                  <a:pt x="21431" y="5630"/>
                  <a:pt x="21431" y="5655"/>
                </a:cubicBezTo>
                <a:cubicBezTo>
                  <a:pt x="21527" y="5592"/>
                  <a:pt x="21640" y="5536"/>
                  <a:pt x="21729" y="5655"/>
                </a:cubicBezTo>
                <a:cubicBezTo>
                  <a:pt x="21848" y="5814"/>
                  <a:pt x="21529" y="5983"/>
                  <a:pt x="21406" y="5953"/>
                </a:cubicBezTo>
                <a:cubicBezTo>
                  <a:pt x="21381" y="5928"/>
                  <a:pt x="21357" y="5904"/>
                  <a:pt x="21332" y="5879"/>
                </a:cubicBezTo>
              </a:path>
              <a:path w="4665" h="1688">
                <a:moveTo>
                  <a:pt x="20960" y="6325"/>
                </a:moveTo>
                <a:cubicBezTo>
                  <a:pt x="21253" y="6283"/>
                  <a:pt x="21536" y="6184"/>
                  <a:pt x="21828" y="6127"/>
                </a:cubicBezTo>
                <a:cubicBezTo>
                  <a:pt x="21845" y="6127"/>
                  <a:pt x="21861" y="6127"/>
                  <a:pt x="21878" y="6127"/>
                </a:cubicBezTo>
              </a:path>
              <a:path w="4665" h="1688">
                <a:moveTo>
                  <a:pt x="21134" y="6474"/>
                </a:moveTo>
                <a:cubicBezTo>
                  <a:pt x="21114" y="6590"/>
                  <a:pt x="21066" y="6706"/>
                  <a:pt x="21034" y="6821"/>
                </a:cubicBezTo>
              </a:path>
              <a:path w="4665" h="1688">
                <a:moveTo>
                  <a:pt x="21506" y="6375"/>
                </a:moveTo>
                <a:cubicBezTo>
                  <a:pt x="21331" y="6607"/>
                  <a:pt x="21443" y="6470"/>
                  <a:pt x="21605" y="6623"/>
                </a:cubicBezTo>
                <a:cubicBezTo>
                  <a:pt x="21605" y="6672"/>
                  <a:pt x="21605" y="6689"/>
                  <a:pt x="21605" y="6722"/>
                </a:cubicBezTo>
                <a:cubicBezTo>
                  <a:pt x="21572" y="6730"/>
                  <a:pt x="21539" y="6739"/>
                  <a:pt x="21506" y="6747"/>
                </a:cubicBezTo>
                <a:cubicBezTo>
                  <a:pt x="21531" y="6599"/>
                  <a:pt x="21618" y="6464"/>
                  <a:pt x="21605" y="6325"/>
                </a:cubicBezTo>
              </a:path>
              <a:path w="4665" h="1688">
                <a:moveTo>
                  <a:pt x="22225" y="5953"/>
                </a:moveTo>
                <a:cubicBezTo>
                  <a:pt x="22299" y="5928"/>
                  <a:pt x="22368" y="5919"/>
                  <a:pt x="22448" y="5904"/>
                </a:cubicBezTo>
              </a:path>
              <a:path w="4665" h="1688">
                <a:moveTo>
                  <a:pt x="22299" y="6052"/>
                </a:moveTo>
                <a:cubicBezTo>
                  <a:pt x="22408" y="6031"/>
                  <a:pt x="22434" y="6028"/>
                  <a:pt x="22498" y="6003"/>
                </a:cubicBezTo>
              </a:path>
              <a:path w="4665" h="1688">
                <a:moveTo>
                  <a:pt x="23044" y="5308"/>
                </a:moveTo>
                <a:cubicBezTo>
                  <a:pt x="23044" y="5423"/>
                  <a:pt x="23087" y="5333"/>
                  <a:pt x="23192" y="5333"/>
                </a:cubicBezTo>
                <a:cubicBezTo>
                  <a:pt x="23237" y="5644"/>
                  <a:pt x="23219" y="5764"/>
                  <a:pt x="22944" y="5928"/>
                </a:cubicBezTo>
                <a:cubicBezTo>
                  <a:pt x="22912" y="5838"/>
                  <a:pt x="22951" y="5615"/>
                  <a:pt x="23118" y="5730"/>
                </a:cubicBezTo>
                <a:cubicBezTo>
                  <a:pt x="23188" y="5779"/>
                  <a:pt x="23185" y="5880"/>
                  <a:pt x="23192" y="5953"/>
                </a:cubicBezTo>
              </a:path>
              <a:path w="4665" h="1688">
                <a:moveTo>
                  <a:pt x="23664" y="5308"/>
                </a:moveTo>
                <a:cubicBezTo>
                  <a:pt x="23503" y="5308"/>
                  <a:pt x="23479" y="5313"/>
                  <a:pt x="23465" y="5482"/>
                </a:cubicBezTo>
                <a:cubicBezTo>
                  <a:pt x="23465" y="5498"/>
                  <a:pt x="23465" y="5515"/>
                  <a:pt x="23465" y="5531"/>
                </a:cubicBezTo>
                <a:cubicBezTo>
                  <a:pt x="23559" y="5521"/>
                  <a:pt x="23843" y="5488"/>
                  <a:pt x="23738" y="5705"/>
                </a:cubicBezTo>
                <a:cubicBezTo>
                  <a:pt x="23644" y="5900"/>
                  <a:pt x="23462" y="5890"/>
                  <a:pt x="23316" y="5804"/>
                </a:cubicBezTo>
              </a:path>
              <a:path w="4665" h="1688">
                <a:moveTo>
                  <a:pt x="22845" y="6127"/>
                </a:moveTo>
                <a:cubicBezTo>
                  <a:pt x="23157" y="6059"/>
                  <a:pt x="23478" y="6020"/>
                  <a:pt x="23788" y="5953"/>
                </a:cubicBezTo>
                <a:cubicBezTo>
                  <a:pt x="23804" y="5945"/>
                  <a:pt x="23821" y="5936"/>
                  <a:pt x="23837" y="5928"/>
                </a:cubicBezTo>
              </a:path>
              <a:path w="4665" h="1688">
                <a:moveTo>
                  <a:pt x="23143" y="6176"/>
                </a:moveTo>
                <a:cubicBezTo>
                  <a:pt x="23137" y="6323"/>
                  <a:pt x="23127" y="6455"/>
                  <a:pt x="23093" y="6598"/>
                </a:cubicBezTo>
              </a:path>
              <a:path w="4665" h="1688">
                <a:moveTo>
                  <a:pt x="23564" y="6226"/>
                </a:moveTo>
                <a:cubicBezTo>
                  <a:pt x="23394" y="6369"/>
                  <a:pt x="23254" y="6384"/>
                  <a:pt x="23465" y="6524"/>
                </a:cubicBezTo>
                <a:cubicBezTo>
                  <a:pt x="23536" y="6570"/>
                  <a:pt x="23561" y="6582"/>
                  <a:pt x="23540" y="6648"/>
                </a:cubicBezTo>
                <a:cubicBezTo>
                  <a:pt x="23310" y="6703"/>
                  <a:pt x="23550" y="6450"/>
                  <a:pt x="23589" y="6375"/>
                </a:cubicBezTo>
                <a:cubicBezTo>
                  <a:pt x="23606" y="6334"/>
                  <a:pt x="23622" y="6292"/>
                  <a:pt x="23639" y="6251"/>
                </a:cubicBezTo>
              </a:path>
              <a:path w="4665" h="1688">
                <a:moveTo>
                  <a:pt x="24085" y="6028"/>
                </a:moveTo>
                <a:cubicBezTo>
                  <a:pt x="24093" y="6028"/>
                  <a:pt x="24102" y="6028"/>
                  <a:pt x="24110" y="6028"/>
                </a:cubicBezTo>
              </a:path>
              <a:path w="4665" h="1688">
                <a:moveTo>
                  <a:pt x="23887" y="6226"/>
                </a:moveTo>
                <a:cubicBezTo>
                  <a:pt x="23986" y="6226"/>
                  <a:pt x="24019" y="6226"/>
                  <a:pt x="24085" y="6226"/>
                </a:cubicBezTo>
              </a:path>
              <a:path w="4665" h="1688">
                <a:moveTo>
                  <a:pt x="24457" y="5631"/>
                </a:moveTo>
                <a:cubicBezTo>
                  <a:pt x="24478" y="5820"/>
                  <a:pt x="24492" y="6009"/>
                  <a:pt x="24507" y="6201"/>
                </a:cubicBezTo>
                <a:cubicBezTo>
                  <a:pt x="24528" y="6366"/>
                  <a:pt x="24536" y="6399"/>
                  <a:pt x="24532" y="6499"/>
                </a:cubicBezTo>
              </a:path>
              <a:path w="4665" h="1688">
                <a:moveTo>
                  <a:pt x="24705" y="5531"/>
                </a:moveTo>
                <a:cubicBezTo>
                  <a:pt x="24807" y="5484"/>
                  <a:pt x="24891" y="5448"/>
                  <a:pt x="25003" y="5432"/>
                </a:cubicBezTo>
                <a:cubicBezTo>
                  <a:pt x="25012" y="5596"/>
                  <a:pt x="24981" y="5759"/>
                  <a:pt x="24954" y="5928"/>
                </a:cubicBezTo>
              </a:path>
              <a:path w="4665" h="1688">
                <a:moveTo>
                  <a:pt x="24656" y="6201"/>
                </a:moveTo>
                <a:cubicBezTo>
                  <a:pt x="24789" y="6194"/>
                  <a:pt x="24931" y="6152"/>
                  <a:pt x="25053" y="6176"/>
                </a:cubicBezTo>
              </a:path>
              <a:path w="4665" h="1688">
                <a:moveTo>
                  <a:pt x="24805" y="6400"/>
                </a:moveTo>
                <a:cubicBezTo>
                  <a:pt x="24795" y="6533"/>
                  <a:pt x="24765" y="6663"/>
                  <a:pt x="24755" y="6796"/>
                </a:cubicBezTo>
              </a:path>
              <a:path w="4665" h="1688">
                <a:moveTo>
                  <a:pt x="25053" y="6400"/>
                </a:moveTo>
                <a:cubicBezTo>
                  <a:pt x="24983" y="6457"/>
                  <a:pt x="24874" y="6521"/>
                  <a:pt x="24954" y="6623"/>
                </a:cubicBezTo>
                <a:cubicBezTo>
                  <a:pt x="24988" y="6666"/>
                  <a:pt x="25178" y="6842"/>
                  <a:pt x="25028" y="6871"/>
                </a:cubicBezTo>
                <a:cubicBezTo>
                  <a:pt x="24995" y="6871"/>
                  <a:pt x="24962" y="6871"/>
                  <a:pt x="24929" y="6871"/>
                </a:cubicBezTo>
                <a:cubicBezTo>
                  <a:pt x="24908" y="6717"/>
                  <a:pt x="24937" y="6619"/>
                  <a:pt x="25003" y="647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5484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818" y="19025"/>
                </a:moveTo>
                <a:lnTo>
                  <a:pt x="16818" y="1902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16720" y="2589120"/>
            <a:ext cx="9360" cy="216000"/>
          </a:xfrm>
          <a:custGeom>
            <a:avLst/>
            <a:gdLst/>
            <a:ahLst/>
            <a:rect l="l" t="t" r="r" b="b"/>
            <a:pathLst>
              <a:path w="26" h="597">
                <a:moveTo>
                  <a:pt x="15627" y="7218"/>
                </a:moveTo>
                <a:cubicBezTo>
                  <a:pt x="15627" y="7102"/>
                  <a:pt x="15627" y="7400"/>
                  <a:pt x="15627" y="7516"/>
                </a:cubicBezTo>
                <a:cubicBezTo>
                  <a:pt x="15627" y="7674"/>
                  <a:pt x="15640" y="7703"/>
                  <a:pt x="15602" y="77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2581200"/>
            <a:ext cx="11736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16197" y="7169"/>
                </a:moveTo>
                <a:cubicBezTo>
                  <a:pt x="16075" y="7182"/>
                  <a:pt x="16016" y="7235"/>
                  <a:pt x="15925" y="7317"/>
                </a:cubicBezTo>
                <a:cubicBezTo>
                  <a:pt x="16069" y="7404"/>
                  <a:pt x="16309" y="7477"/>
                  <a:pt x="16222" y="7689"/>
                </a:cubicBezTo>
                <a:cubicBezTo>
                  <a:pt x="16206" y="7697"/>
                  <a:pt x="16189" y="7706"/>
                  <a:pt x="16173" y="7714"/>
                </a:cubicBezTo>
                <a:cubicBezTo>
                  <a:pt x="16010" y="7633"/>
                  <a:pt x="16101" y="7509"/>
                  <a:pt x="16173" y="7342"/>
                </a:cubicBezTo>
                <a:cubicBezTo>
                  <a:pt x="16181" y="7326"/>
                  <a:pt x="16189" y="7309"/>
                  <a:pt x="16197" y="729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3960" y="26337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7512" y="7317"/>
                </a:moveTo>
                <a:cubicBezTo>
                  <a:pt x="17534" y="7501"/>
                  <a:pt x="17537" y="7677"/>
                  <a:pt x="17537" y="786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29240" y="2616120"/>
            <a:ext cx="108000" cy="196920"/>
          </a:xfrm>
          <a:custGeom>
            <a:avLst/>
            <a:gdLst/>
            <a:ahLst/>
            <a:rect l="l" t="t" r="r" b="b"/>
            <a:pathLst>
              <a:path w="299" h="546">
                <a:moveTo>
                  <a:pt x="18107" y="7268"/>
                </a:moveTo>
                <a:cubicBezTo>
                  <a:pt x="18008" y="7288"/>
                  <a:pt x="17938" y="7326"/>
                  <a:pt x="17859" y="7392"/>
                </a:cubicBezTo>
                <a:cubicBezTo>
                  <a:pt x="17932" y="7516"/>
                  <a:pt x="18128" y="7569"/>
                  <a:pt x="18157" y="7714"/>
                </a:cubicBezTo>
                <a:cubicBezTo>
                  <a:pt x="18180" y="7831"/>
                  <a:pt x="18038" y="7809"/>
                  <a:pt x="17983" y="7813"/>
                </a:cubicBezTo>
                <a:cubicBezTo>
                  <a:pt x="17983" y="7637"/>
                  <a:pt x="18038" y="7528"/>
                  <a:pt x="18107" y="736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59280" y="2751120"/>
            <a:ext cx="1258920" cy="1000080"/>
          </a:xfrm>
          <a:custGeom>
            <a:avLst/>
            <a:gdLst/>
            <a:ahLst/>
            <a:rect l="l" t="t" r="r" b="b"/>
            <a:pathLst>
              <a:path w="3498" h="2779">
                <a:moveTo>
                  <a:pt x="16966" y="8657"/>
                </a:moveTo>
                <a:cubicBezTo>
                  <a:pt x="16996" y="8955"/>
                  <a:pt x="17024" y="9250"/>
                  <a:pt x="17041" y="9550"/>
                </a:cubicBezTo>
                <a:cubicBezTo>
                  <a:pt x="17041" y="9575"/>
                  <a:pt x="17041" y="9599"/>
                  <a:pt x="17041" y="9624"/>
                </a:cubicBezTo>
              </a:path>
              <a:path w="3498" h="2779">
                <a:moveTo>
                  <a:pt x="17487" y="8458"/>
                </a:moveTo>
                <a:cubicBezTo>
                  <a:pt x="17683" y="8399"/>
                  <a:pt x="17884" y="8367"/>
                  <a:pt x="18083" y="8310"/>
                </a:cubicBezTo>
                <a:cubicBezTo>
                  <a:pt x="18066" y="8477"/>
                  <a:pt x="18022" y="8638"/>
                  <a:pt x="18008" y="8806"/>
                </a:cubicBezTo>
              </a:path>
              <a:path w="3498" h="2779">
                <a:moveTo>
                  <a:pt x="17859" y="9004"/>
                </a:moveTo>
                <a:cubicBezTo>
                  <a:pt x="18155" y="8913"/>
                  <a:pt x="18235" y="8886"/>
                  <a:pt x="18430" y="8855"/>
                </a:cubicBezTo>
              </a:path>
              <a:path w="3498" h="2779">
                <a:moveTo>
                  <a:pt x="17760" y="9203"/>
                </a:moveTo>
                <a:cubicBezTo>
                  <a:pt x="17770" y="9435"/>
                  <a:pt x="17800" y="9665"/>
                  <a:pt x="17810" y="9897"/>
                </a:cubicBezTo>
              </a:path>
              <a:path w="3498" h="2779">
                <a:moveTo>
                  <a:pt x="18256" y="9153"/>
                </a:moveTo>
                <a:cubicBezTo>
                  <a:pt x="17960" y="9404"/>
                  <a:pt x="18098" y="9343"/>
                  <a:pt x="18331" y="9550"/>
                </a:cubicBezTo>
                <a:cubicBezTo>
                  <a:pt x="18364" y="9591"/>
                  <a:pt x="18397" y="9633"/>
                  <a:pt x="18430" y="9674"/>
                </a:cubicBezTo>
                <a:cubicBezTo>
                  <a:pt x="18379" y="9724"/>
                  <a:pt x="18361" y="9740"/>
                  <a:pt x="18306" y="9723"/>
                </a:cubicBezTo>
                <a:cubicBezTo>
                  <a:pt x="18233" y="9524"/>
                  <a:pt x="18256" y="9422"/>
                  <a:pt x="18306" y="9203"/>
                </a:cubicBezTo>
              </a:path>
              <a:path w="3498" h="2779">
                <a:moveTo>
                  <a:pt x="16470" y="10220"/>
                </a:moveTo>
                <a:cubicBezTo>
                  <a:pt x="17014" y="10490"/>
                  <a:pt x="17616" y="10439"/>
                  <a:pt x="18231" y="10344"/>
                </a:cubicBezTo>
                <a:cubicBezTo>
                  <a:pt x="18962" y="10231"/>
                  <a:pt x="19467" y="9904"/>
                  <a:pt x="19496" y="9103"/>
                </a:cubicBezTo>
                <a:cubicBezTo>
                  <a:pt x="19525" y="8302"/>
                  <a:pt x="19102" y="7666"/>
                  <a:pt x="18256" y="7640"/>
                </a:cubicBezTo>
                <a:cubicBezTo>
                  <a:pt x="17219" y="7608"/>
                  <a:pt x="16179" y="8232"/>
                  <a:pt x="15999" y="9302"/>
                </a:cubicBezTo>
                <a:cubicBezTo>
                  <a:pt x="16101" y="9762"/>
                  <a:pt x="16147" y="9917"/>
                  <a:pt x="16545" y="997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92880" y="1535040"/>
            <a:ext cx="223920" cy="787320"/>
          </a:xfrm>
          <a:custGeom>
            <a:avLst/>
            <a:gdLst/>
            <a:ahLst/>
            <a:rect l="l" t="t" r="r" b="b"/>
            <a:pathLst>
              <a:path w="621" h="2184">
                <a:moveTo>
                  <a:pt x="17760" y="6251"/>
                </a:moveTo>
                <a:cubicBezTo>
                  <a:pt x="17790" y="6281"/>
                  <a:pt x="17801" y="6295"/>
                  <a:pt x="17810" y="6325"/>
                </a:cubicBezTo>
              </a:path>
              <a:path w="621" h="2184">
                <a:moveTo>
                  <a:pt x="17810" y="6152"/>
                </a:moveTo>
                <a:cubicBezTo>
                  <a:pt x="17810" y="6256"/>
                  <a:pt x="17802" y="6349"/>
                  <a:pt x="17785" y="6449"/>
                </a:cubicBezTo>
              </a:path>
              <a:path w="621" h="2184">
                <a:moveTo>
                  <a:pt x="17959" y="6102"/>
                </a:moveTo>
                <a:cubicBezTo>
                  <a:pt x="17979" y="6031"/>
                  <a:pt x="18002" y="6019"/>
                  <a:pt x="18083" y="6003"/>
                </a:cubicBezTo>
                <a:cubicBezTo>
                  <a:pt x="18083" y="6117"/>
                  <a:pt x="18078" y="6090"/>
                  <a:pt x="18182" y="6077"/>
                </a:cubicBezTo>
                <a:cubicBezTo>
                  <a:pt x="18139" y="6293"/>
                  <a:pt x="18081" y="6352"/>
                  <a:pt x="17884" y="6424"/>
                </a:cubicBezTo>
              </a:path>
              <a:path w="621" h="2184">
                <a:moveTo>
                  <a:pt x="17959" y="5730"/>
                </a:moveTo>
                <a:cubicBezTo>
                  <a:pt x="18038" y="5794"/>
                  <a:pt x="18106" y="5779"/>
                  <a:pt x="18207" y="5779"/>
                </a:cubicBezTo>
                <a:cubicBezTo>
                  <a:pt x="18232" y="5779"/>
                  <a:pt x="18256" y="5779"/>
                  <a:pt x="18281" y="5779"/>
                </a:cubicBezTo>
              </a:path>
              <a:path w="621" h="2184">
                <a:moveTo>
                  <a:pt x="17959" y="5482"/>
                </a:moveTo>
                <a:cubicBezTo>
                  <a:pt x="17990" y="5443"/>
                  <a:pt x="18049" y="5412"/>
                  <a:pt x="18107" y="5383"/>
                </a:cubicBezTo>
                <a:cubicBezTo>
                  <a:pt x="18126" y="5458"/>
                  <a:pt x="18138" y="5487"/>
                  <a:pt x="18157" y="5556"/>
                </a:cubicBezTo>
                <a:cubicBezTo>
                  <a:pt x="18193" y="5687"/>
                  <a:pt x="18079" y="5719"/>
                  <a:pt x="17983" y="5730"/>
                </a:cubicBezTo>
              </a:path>
              <a:path w="621" h="2184">
                <a:moveTo>
                  <a:pt x="17785" y="4366"/>
                </a:moveTo>
                <a:cubicBezTo>
                  <a:pt x="17863" y="4509"/>
                  <a:pt x="17859" y="4643"/>
                  <a:pt x="17859" y="4812"/>
                </a:cubicBezTo>
              </a:path>
              <a:path w="621" h="2184">
                <a:moveTo>
                  <a:pt x="18107" y="4415"/>
                </a:moveTo>
                <a:cubicBezTo>
                  <a:pt x="18086" y="4481"/>
                  <a:pt x="18078" y="4496"/>
                  <a:pt x="18083" y="4539"/>
                </a:cubicBezTo>
                <a:cubicBezTo>
                  <a:pt x="18166" y="4547"/>
                  <a:pt x="18306" y="4544"/>
                  <a:pt x="18306" y="4663"/>
                </a:cubicBezTo>
                <a:cubicBezTo>
                  <a:pt x="18306" y="4845"/>
                  <a:pt x="18148" y="4778"/>
                  <a:pt x="18083" y="4713"/>
                </a:cubicBezTo>
              </a:path>
              <a:path w="621" h="2184">
                <a:moveTo>
                  <a:pt x="18182" y="4366"/>
                </a:moveTo>
                <a:cubicBezTo>
                  <a:pt x="18250" y="4334"/>
                  <a:pt x="18320" y="4306"/>
                  <a:pt x="18380" y="426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633760"/>
            <a:ext cx="1170000" cy="1278000"/>
          </a:xfrm>
          <a:custGeom>
            <a:avLst/>
            <a:gdLst/>
            <a:ahLst/>
            <a:rect l="l" t="t" r="r" b="b"/>
            <a:pathLst>
              <a:path w="3250" h="3548">
                <a:moveTo>
                  <a:pt x="23093" y="8533"/>
                </a:moveTo>
                <a:cubicBezTo>
                  <a:pt x="23230" y="8572"/>
                  <a:pt x="23463" y="8719"/>
                  <a:pt x="23292" y="8905"/>
                </a:cubicBezTo>
                <a:cubicBezTo>
                  <a:pt x="23143" y="9067"/>
                  <a:pt x="23003" y="9076"/>
                  <a:pt x="22870" y="9004"/>
                </a:cubicBezTo>
                <a:cubicBezTo>
                  <a:pt x="23050" y="8836"/>
                  <a:pt x="23117" y="8879"/>
                  <a:pt x="23316" y="9029"/>
                </a:cubicBezTo>
              </a:path>
              <a:path w="3250" h="3548">
                <a:moveTo>
                  <a:pt x="23812" y="8483"/>
                </a:moveTo>
                <a:cubicBezTo>
                  <a:pt x="23642" y="8540"/>
                  <a:pt x="23654" y="8493"/>
                  <a:pt x="23614" y="8682"/>
                </a:cubicBezTo>
                <a:cubicBezTo>
                  <a:pt x="23606" y="8723"/>
                  <a:pt x="23597" y="8765"/>
                  <a:pt x="23589" y="8806"/>
                </a:cubicBezTo>
                <a:cubicBezTo>
                  <a:pt x="23713" y="8782"/>
                  <a:pt x="23918" y="8624"/>
                  <a:pt x="23986" y="8830"/>
                </a:cubicBezTo>
                <a:cubicBezTo>
                  <a:pt x="24071" y="9087"/>
                  <a:pt x="23819" y="9098"/>
                  <a:pt x="23664" y="9153"/>
                </a:cubicBezTo>
              </a:path>
              <a:path w="3250" h="3548">
                <a:moveTo>
                  <a:pt x="22671" y="9599"/>
                </a:moveTo>
                <a:cubicBezTo>
                  <a:pt x="22723" y="9307"/>
                  <a:pt x="22652" y="9069"/>
                  <a:pt x="22597" y="8781"/>
                </a:cubicBezTo>
                <a:cubicBezTo>
                  <a:pt x="22542" y="8490"/>
                  <a:pt x="22596" y="8463"/>
                  <a:pt x="22944" y="8359"/>
                </a:cubicBezTo>
                <a:cubicBezTo>
                  <a:pt x="23400" y="8222"/>
                  <a:pt x="23888" y="8179"/>
                  <a:pt x="24358" y="8111"/>
                </a:cubicBezTo>
              </a:path>
              <a:path w="3250" h="3548">
                <a:moveTo>
                  <a:pt x="22151" y="8706"/>
                </a:moveTo>
                <a:cubicBezTo>
                  <a:pt x="22078" y="8983"/>
                  <a:pt x="21988" y="9252"/>
                  <a:pt x="21903" y="9525"/>
                </a:cubicBezTo>
              </a:path>
              <a:path w="3250" h="3548">
                <a:moveTo>
                  <a:pt x="22498" y="8706"/>
                </a:moveTo>
                <a:cubicBezTo>
                  <a:pt x="22330" y="8924"/>
                  <a:pt x="22474" y="8877"/>
                  <a:pt x="22572" y="9079"/>
                </a:cubicBezTo>
                <a:cubicBezTo>
                  <a:pt x="22652" y="9244"/>
                  <a:pt x="22536" y="9284"/>
                  <a:pt x="22423" y="9327"/>
                </a:cubicBezTo>
                <a:cubicBezTo>
                  <a:pt x="22470" y="9083"/>
                  <a:pt x="22579" y="8921"/>
                  <a:pt x="22547" y="8682"/>
                </a:cubicBezTo>
              </a:path>
              <a:path w="3250" h="3548">
                <a:moveTo>
                  <a:pt x="23688" y="7863"/>
                </a:moveTo>
                <a:cubicBezTo>
                  <a:pt x="23711" y="8094"/>
                  <a:pt x="23720" y="8160"/>
                  <a:pt x="23713" y="8310"/>
                </a:cubicBezTo>
              </a:path>
              <a:path w="3250" h="3548">
                <a:moveTo>
                  <a:pt x="23242" y="9351"/>
                </a:moveTo>
                <a:cubicBezTo>
                  <a:pt x="23263" y="9517"/>
                  <a:pt x="23273" y="9681"/>
                  <a:pt x="23292" y="9847"/>
                </a:cubicBezTo>
              </a:path>
              <a:path w="3250" h="3548">
                <a:moveTo>
                  <a:pt x="23788" y="9327"/>
                </a:moveTo>
                <a:cubicBezTo>
                  <a:pt x="23639" y="9608"/>
                  <a:pt x="23732" y="9547"/>
                  <a:pt x="23912" y="9773"/>
                </a:cubicBezTo>
                <a:cubicBezTo>
                  <a:pt x="24009" y="9895"/>
                  <a:pt x="23934" y="9914"/>
                  <a:pt x="23837" y="9947"/>
                </a:cubicBezTo>
                <a:cubicBezTo>
                  <a:pt x="23830" y="9733"/>
                  <a:pt x="23859" y="9562"/>
                  <a:pt x="23912" y="9351"/>
                </a:cubicBezTo>
              </a:path>
              <a:path w="3250" h="3548">
                <a:moveTo>
                  <a:pt x="23217" y="10319"/>
                </a:moveTo>
                <a:cubicBezTo>
                  <a:pt x="23411" y="10271"/>
                  <a:pt x="24169" y="10046"/>
                  <a:pt x="24185" y="10046"/>
                </a:cubicBezTo>
              </a:path>
              <a:path w="3250" h="3548">
                <a:moveTo>
                  <a:pt x="23713" y="10418"/>
                </a:moveTo>
                <a:cubicBezTo>
                  <a:pt x="23900" y="10349"/>
                  <a:pt x="23953" y="10324"/>
                  <a:pt x="24085" y="10344"/>
                </a:cubicBezTo>
                <a:cubicBezTo>
                  <a:pt x="24085" y="10534"/>
                  <a:pt x="24042" y="10684"/>
                  <a:pt x="23986" y="10864"/>
                </a:cubicBezTo>
              </a:path>
              <a:path w="3250" h="3548">
                <a:moveTo>
                  <a:pt x="24730" y="8285"/>
                </a:moveTo>
                <a:cubicBezTo>
                  <a:pt x="24872" y="8068"/>
                  <a:pt x="24998" y="7835"/>
                  <a:pt x="25003" y="7565"/>
                </a:cubicBezTo>
                <a:cubicBezTo>
                  <a:pt x="25005" y="7469"/>
                  <a:pt x="24967" y="7437"/>
                  <a:pt x="24904" y="7392"/>
                </a:cubicBezTo>
                <a:cubicBezTo>
                  <a:pt x="24791" y="7406"/>
                  <a:pt x="24722" y="7582"/>
                  <a:pt x="24656" y="7714"/>
                </a:cubicBezTo>
                <a:cubicBezTo>
                  <a:pt x="24656" y="7663"/>
                  <a:pt x="24708" y="7320"/>
                  <a:pt x="24829" y="7317"/>
                </a:cubicBezTo>
                <a:cubicBezTo>
                  <a:pt x="24935" y="7314"/>
                  <a:pt x="25059" y="7450"/>
                  <a:pt x="25152" y="749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00920" y="4116240"/>
            <a:ext cx="1581120" cy="1839960"/>
          </a:xfrm>
          <a:custGeom>
            <a:avLst/>
            <a:gdLst/>
            <a:ahLst/>
            <a:rect l="l" t="t" r="r" b="b"/>
            <a:pathLst>
              <a:path w="4391" h="5111">
                <a:moveTo>
                  <a:pt x="21034" y="11782"/>
                </a:moveTo>
                <a:cubicBezTo>
                  <a:pt x="20911" y="11659"/>
                  <a:pt x="20758" y="11824"/>
                  <a:pt x="20638" y="11906"/>
                </a:cubicBezTo>
                <a:cubicBezTo>
                  <a:pt x="20721" y="12115"/>
                  <a:pt x="20961" y="12274"/>
                  <a:pt x="20836" y="12526"/>
                </a:cubicBezTo>
                <a:cubicBezTo>
                  <a:pt x="20803" y="12551"/>
                  <a:pt x="20770" y="12576"/>
                  <a:pt x="20737" y="12601"/>
                </a:cubicBezTo>
                <a:cubicBezTo>
                  <a:pt x="20718" y="12324"/>
                  <a:pt x="20881" y="12157"/>
                  <a:pt x="20985" y="11906"/>
                </a:cubicBezTo>
                <a:cubicBezTo>
                  <a:pt x="20985" y="11890"/>
                  <a:pt x="20985" y="11873"/>
                  <a:pt x="20985" y="11857"/>
                </a:cubicBezTo>
              </a:path>
              <a:path w="4391" h="5111">
                <a:moveTo>
                  <a:pt x="21506" y="11559"/>
                </a:moveTo>
                <a:cubicBezTo>
                  <a:pt x="21491" y="11661"/>
                  <a:pt x="21482" y="11762"/>
                  <a:pt x="21456" y="11857"/>
                </a:cubicBezTo>
              </a:path>
              <a:path w="4391" h="5111">
                <a:moveTo>
                  <a:pt x="21754" y="11435"/>
                </a:moveTo>
                <a:cubicBezTo>
                  <a:pt x="21782" y="11575"/>
                  <a:pt x="21790" y="11632"/>
                  <a:pt x="21779" y="11733"/>
                </a:cubicBezTo>
              </a:path>
              <a:path w="4391" h="5111">
                <a:moveTo>
                  <a:pt x="21307" y="12105"/>
                </a:moveTo>
                <a:cubicBezTo>
                  <a:pt x="21498" y="12068"/>
                  <a:pt x="21686" y="12037"/>
                  <a:pt x="21878" y="12005"/>
                </a:cubicBezTo>
              </a:path>
              <a:path w="4391" h="5111">
                <a:moveTo>
                  <a:pt x="21258" y="12328"/>
                </a:moveTo>
                <a:cubicBezTo>
                  <a:pt x="21429" y="12328"/>
                  <a:pt x="21394" y="12334"/>
                  <a:pt x="21530" y="12402"/>
                </a:cubicBezTo>
                <a:cubicBezTo>
                  <a:pt x="21483" y="12637"/>
                  <a:pt x="21427" y="12673"/>
                  <a:pt x="21183" y="12700"/>
                </a:cubicBezTo>
                <a:cubicBezTo>
                  <a:pt x="21238" y="12576"/>
                  <a:pt x="21313" y="12533"/>
                  <a:pt x="21431" y="12626"/>
                </a:cubicBezTo>
                <a:cubicBezTo>
                  <a:pt x="21448" y="12642"/>
                  <a:pt x="21464" y="12659"/>
                  <a:pt x="21481" y="12675"/>
                </a:cubicBezTo>
              </a:path>
              <a:path w="4391" h="5111">
                <a:moveTo>
                  <a:pt x="21878" y="12278"/>
                </a:moveTo>
                <a:cubicBezTo>
                  <a:pt x="21809" y="12402"/>
                  <a:pt x="21674" y="12671"/>
                  <a:pt x="21952" y="12626"/>
                </a:cubicBezTo>
                <a:cubicBezTo>
                  <a:pt x="22239" y="12579"/>
                  <a:pt x="22017" y="12410"/>
                  <a:pt x="21903" y="12353"/>
                </a:cubicBezTo>
              </a:path>
              <a:path w="4391" h="5111">
                <a:moveTo>
                  <a:pt x="20141" y="13444"/>
                </a:moveTo>
                <a:cubicBezTo>
                  <a:pt x="20132" y="13593"/>
                  <a:pt x="20127" y="13751"/>
                  <a:pt x="20092" y="13891"/>
                </a:cubicBezTo>
              </a:path>
              <a:path w="4391" h="5111">
                <a:moveTo>
                  <a:pt x="19918" y="13742"/>
                </a:moveTo>
                <a:cubicBezTo>
                  <a:pt x="20051" y="13715"/>
                  <a:pt x="20182" y="13684"/>
                  <a:pt x="20315" y="13667"/>
                </a:cubicBezTo>
              </a:path>
              <a:path w="4391" h="5111">
                <a:moveTo>
                  <a:pt x="20414" y="13320"/>
                </a:moveTo>
                <a:cubicBezTo>
                  <a:pt x="20464" y="13504"/>
                  <a:pt x="20477" y="13652"/>
                  <a:pt x="20439" y="13841"/>
                </a:cubicBezTo>
              </a:path>
              <a:path w="4391" h="5111">
                <a:moveTo>
                  <a:pt x="20638" y="13345"/>
                </a:moveTo>
                <a:cubicBezTo>
                  <a:pt x="20721" y="13247"/>
                  <a:pt x="20886" y="13200"/>
                  <a:pt x="20886" y="13419"/>
                </a:cubicBezTo>
                <a:cubicBezTo>
                  <a:pt x="20886" y="13573"/>
                  <a:pt x="20710" y="13719"/>
                  <a:pt x="20613" y="13816"/>
                </a:cubicBezTo>
                <a:cubicBezTo>
                  <a:pt x="20742" y="13760"/>
                  <a:pt x="20795" y="13705"/>
                  <a:pt x="20886" y="13816"/>
                </a:cubicBezTo>
                <a:cubicBezTo>
                  <a:pt x="20894" y="13824"/>
                  <a:pt x="20902" y="13833"/>
                  <a:pt x="20910" y="13841"/>
                </a:cubicBezTo>
              </a:path>
              <a:path w="4391" h="5111">
                <a:moveTo>
                  <a:pt x="21878" y="13047"/>
                </a:moveTo>
                <a:cubicBezTo>
                  <a:pt x="21878" y="13138"/>
                  <a:pt x="21878" y="13229"/>
                  <a:pt x="21878" y="13320"/>
                </a:cubicBezTo>
              </a:path>
              <a:path w="4391" h="5111">
                <a:moveTo>
                  <a:pt x="21506" y="13519"/>
                </a:moveTo>
                <a:cubicBezTo>
                  <a:pt x="21723" y="13519"/>
                  <a:pt x="21938" y="13509"/>
                  <a:pt x="22151" y="13543"/>
                </a:cubicBezTo>
              </a:path>
              <a:path w="4391" h="5111">
                <a:moveTo>
                  <a:pt x="21530" y="13841"/>
                </a:moveTo>
                <a:cubicBezTo>
                  <a:pt x="21503" y="13960"/>
                  <a:pt x="21433" y="14099"/>
                  <a:pt x="21630" y="14064"/>
                </a:cubicBezTo>
                <a:cubicBezTo>
                  <a:pt x="21680" y="14048"/>
                  <a:pt x="21729" y="14031"/>
                  <a:pt x="21779" y="14015"/>
                </a:cubicBezTo>
              </a:path>
              <a:path w="4391" h="5111">
                <a:moveTo>
                  <a:pt x="21803" y="13791"/>
                </a:moveTo>
                <a:cubicBezTo>
                  <a:pt x="21750" y="13963"/>
                  <a:pt x="21707" y="14134"/>
                  <a:pt x="21679" y="14312"/>
                </a:cubicBezTo>
                <a:cubicBezTo>
                  <a:pt x="21679" y="14320"/>
                  <a:pt x="21679" y="14329"/>
                  <a:pt x="21679" y="14337"/>
                </a:cubicBezTo>
              </a:path>
              <a:path w="4391" h="5111">
                <a:moveTo>
                  <a:pt x="22969" y="12179"/>
                </a:moveTo>
                <a:cubicBezTo>
                  <a:pt x="22978" y="12242"/>
                  <a:pt x="22994" y="12282"/>
                  <a:pt x="22994" y="12353"/>
                </a:cubicBezTo>
                <a:cubicBezTo>
                  <a:pt x="22994" y="12405"/>
                  <a:pt x="23008" y="12409"/>
                  <a:pt x="23019" y="12452"/>
                </a:cubicBezTo>
              </a:path>
              <a:path w="4391" h="5111">
                <a:moveTo>
                  <a:pt x="22151" y="13618"/>
                </a:moveTo>
                <a:cubicBezTo>
                  <a:pt x="22192" y="13701"/>
                  <a:pt x="22200" y="13717"/>
                  <a:pt x="22225" y="13767"/>
                </a:cubicBezTo>
              </a:path>
              <a:path w="4391" h="5111">
                <a:moveTo>
                  <a:pt x="22275" y="13543"/>
                </a:moveTo>
                <a:cubicBezTo>
                  <a:pt x="22227" y="13645"/>
                  <a:pt x="22181" y="13744"/>
                  <a:pt x="22126" y="13841"/>
                </a:cubicBezTo>
              </a:path>
              <a:path w="4391" h="5111">
                <a:moveTo>
                  <a:pt x="22349" y="13717"/>
                </a:moveTo>
                <a:cubicBezTo>
                  <a:pt x="22484" y="13754"/>
                  <a:pt x="22497" y="13746"/>
                  <a:pt x="22473" y="13891"/>
                </a:cubicBezTo>
              </a:path>
              <a:path w="4391" h="5111">
                <a:moveTo>
                  <a:pt x="22349" y="13667"/>
                </a:moveTo>
                <a:cubicBezTo>
                  <a:pt x="22406" y="13640"/>
                  <a:pt x="22430" y="13629"/>
                  <a:pt x="22473" y="13618"/>
                </a:cubicBezTo>
              </a:path>
              <a:path w="4391" h="5111">
                <a:moveTo>
                  <a:pt x="22423" y="13519"/>
                </a:moveTo>
                <a:cubicBezTo>
                  <a:pt x="22448" y="13511"/>
                  <a:pt x="22473" y="13502"/>
                  <a:pt x="22498" y="13494"/>
                </a:cubicBezTo>
              </a:path>
              <a:path w="4391" h="5111">
                <a:moveTo>
                  <a:pt x="22349" y="13320"/>
                </a:moveTo>
                <a:cubicBezTo>
                  <a:pt x="22386" y="13301"/>
                  <a:pt x="22454" y="13340"/>
                  <a:pt x="22523" y="13345"/>
                </a:cubicBezTo>
                <a:cubicBezTo>
                  <a:pt x="22523" y="13413"/>
                  <a:pt x="22528" y="13435"/>
                  <a:pt x="22473" y="13444"/>
                </a:cubicBezTo>
              </a:path>
              <a:path w="4391" h="5111">
                <a:moveTo>
                  <a:pt x="22448" y="13221"/>
                </a:moveTo>
                <a:cubicBezTo>
                  <a:pt x="22473" y="13213"/>
                  <a:pt x="22498" y="13204"/>
                  <a:pt x="22523" y="13196"/>
                </a:cubicBezTo>
              </a:path>
              <a:path w="4391" h="5111">
                <a:moveTo>
                  <a:pt x="22696" y="13494"/>
                </a:moveTo>
                <a:cubicBezTo>
                  <a:pt x="22704" y="13494"/>
                  <a:pt x="22713" y="13494"/>
                  <a:pt x="22721" y="13494"/>
                </a:cubicBezTo>
              </a:path>
              <a:path w="4391" h="5111">
                <a:moveTo>
                  <a:pt x="22721" y="13618"/>
                </a:moveTo>
                <a:cubicBezTo>
                  <a:pt x="22746" y="13610"/>
                  <a:pt x="22771" y="13601"/>
                  <a:pt x="22796" y="13593"/>
                </a:cubicBezTo>
              </a:path>
              <a:path w="4391" h="5111">
                <a:moveTo>
                  <a:pt x="23168" y="14263"/>
                </a:moveTo>
                <a:cubicBezTo>
                  <a:pt x="23294" y="14301"/>
                  <a:pt x="23460" y="14414"/>
                  <a:pt x="23391" y="14585"/>
                </a:cubicBezTo>
                <a:cubicBezTo>
                  <a:pt x="23332" y="14730"/>
                  <a:pt x="23181" y="14717"/>
                  <a:pt x="23068" y="14709"/>
                </a:cubicBezTo>
                <a:cubicBezTo>
                  <a:pt x="23198" y="14569"/>
                  <a:pt x="23235" y="14569"/>
                  <a:pt x="23416" y="14660"/>
                </a:cubicBezTo>
              </a:path>
              <a:path w="4391" h="5111">
                <a:moveTo>
                  <a:pt x="23614" y="14362"/>
                </a:moveTo>
                <a:cubicBezTo>
                  <a:pt x="23580" y="14490"/>
                  <a:pt x="23582" y="14774"/>
                  <a:pt x="23788" y="14560"/>
                </a:cubicBezTo>
                <a:cubicBezTo>
                  <a:pt x="23922" y="14421"/>
                  <a:pt x="23756" y="14380"/>
                  <a:pt x="23664" y="14337"/>
                </a:cubicBezTo>
              </a:path>
              <a:path w="4391" h="5111">
                <a:moveTo>
                  <a:pt x="23168" y="14163"/>
                </a:moveTo>
                <a:cubicBezTo>
                  <a:pt x="23333" y="14127"/>
                  <a:pt x="23495" y="14100"/>
                  <a:pt x="23664" y="14089"/>
                </a:cubicBezTo>
              </a:path>
              <a:path w="4391" h="5111">
                <a:moveTo>
                  <a:pt x="23341" y="13891"/>
                </a:moveTo>
                <a:cubicBezTo>
                  <a:pt x="23249" y="13899"/>
                  <a:pt x="23212" y="13891"/>
                  <a:pt x="23192" y="13990"/>
                </a:cubicBezTo>
                <a:cubicBezTo>
                  <a:pt x="23255" y="14041"/>
                  <a:pt x="23392" y="13962"/>
                  <a:pt x="23440" y="14064"/>
                </a:cubicBezTo>
                <a:cubicBezTo>
                  <a:pt x="23518" y="14229"/>
                  <a:pt x="23237" y="14217"/>
                  <a:pt x="23168" y="14213"/>
                </a:cubicBezTo>
              </a:path>
              <a:path w="4391" h="5111">
                <a:moveTo>
                  <a:pt x="23292" y="13940"/>
                </a:moveTo>
                <a:cubicBezTo>
                  <a:pt x="23381" y="13896"/>
                  <a:pt x="23404" y="13883"/>
                  <a:pt x="23465" y="13866"/>
                </a:cubicBezTo>
              </a:path>
              <a:path w="4391" h="5111">
                <a:moveTo>
                  <a:pt x="19447" y="15131"/>
                </a:moveTo>
                <a:cubicBezTo>
                  <a:pt x="19731" y="15111"/>
                  <a:pt x="19983" y="15046"/>
                  <a:pt x="20265" y="14982"/>
                </a:cubicBezTo>
                <a:cubicBezTo>
                  <a:pt x="21006" y="14813"/>
                  <a:pt x="21756" y="14697"/>
                  <a:pt x="22498" y="14536"/>
                </a:cubicBezTo>
                <a:cubicBezTo>
                  <a:pt x="22741" y="14483"/>
                  <a:pt x="22980" y="14399"/>
                  <a:pt x="23217" y="14337"/>
                </a:cubicBezTo>
              </a:path>
              <a:path w="4391" h="5111">
                <a:moveTo>
                  <a:pt x="21605" y="13072"/>
                </a:moveTo>
                <a:cubicBezTo>
                  <a:pt x="21789" y="13313"/>
                  <a:pt x="21993" y="13545"/>
                  <a:pt x="22200" y="13767"/>
                </a:cubicBezTo>
                <a:cubicBezTo>
                  <a:pt x="22308" y="13875"/>
                  <a:pt x="22332" y="13899"/>
                  <a:pt x="22399" y="13965"/>
                </a:cubicBezTo>
              </a:path>
              <a:path w="4391" h="5111">
                <a:moveTo>
                  <a:pt x="22423" y="13246"/>
                </a:moveTo>
                <a:cubicBezTo>
                  <a:pt x="22281" y="13450"/>
                  <a:pt x="22149" y="13663"/>
                  <a:pt x="22002" y="13866"/>
                </a:cubicBezTo>
                <a:cubicBezTo>
                  <a:pt x="21919" y="13981"/>
                  <a:pt x="21835" y="14096"/>
                  <a:pt x="21754" y="14213"/>
                </a:cubicBezTo>
              </a:path>
              <a:path w="4391" h="5111">
                <a:moveTo>
                  <a:pt x="21555" y="15180"/>
                </a:moveTo>
                <a:cubicBezTo>
                  <a:pt x="21555" y="15147"/>
                  <a:pt x="21555" y="15131"/>
                  <a:pt x="21555" y="15106"/>
                </a:cubicBezTo>
                <a:cubicBezTo>
                  <a:pt x="21555" y="15291"/>
                  <a:pt x="21548" y="15469"/>
                  <a:pt x="21530" y="15652"/>
                </a:cubicBezTo>
              </a:path>
              <a:path w="4391" h="5111">
                <a:moveTo>
                  <a:pt x="21803" y="15056"/>
                </a:moveTo>
                <a:cubicBezTo>
                  <a:pt x="21803" y="15199"/>
                  <a:pt x="21800" y="15336"/>
                  <a:pt x="21828" y="15478"/>
                </a:cubicBezTo>
                <a:cubicBezTo>
                  <a:pt x="21836" y="15503"/>
                  <a:pt x="21845" y="15528"/>
                  <a:pt x="21853" y="15553"/>
                </a:cubicBezTo>
                <a:cubicBezTo>
                  <a:pt x="22012" y="15530"/>
                  <a:pt x="22068" y="15518"/>
                  <a:pt x="22101" y="15354"/>
                </a:cubicBezTo>
                <a:cubicBezTo>
                  <a:pt x="22007" y="15401"/>
                  <a:pt x="22000" y="15463"/>
                  <a:pt x="21952" y="15577"/>
                </a:cubicBezTo>
              </a:path>
              <a:path w="4391" h="5111">
                <a:moveTo>
                  <a:pt x="21431" y="15850"/>
                </a:moveTo>
                <a:cubicBezTo>
                  <a:pt x="21680" y="15824"/>
                  <a:pt x="21925" y="15761"/>
                  <a:pt x="22175" y="15726"/>
                </a:cubicBezTo>
                <a:cubicBezTo>
                  <a:pt x="22208" y="15726"/>
                  <a:pt x="22217" y="15734"/>
                  <a:pt x="22200" y="15776"/>
                </a:cubicBezTo>
              </a:path>
              <a:path w="4391" h="5111">
                <a:moveTo>
                  <a:pt x="21456" y="16073"/>
                </a:moveTo>
                <a:cubicBezTo>
                  <a:pt x="21530" y="16049"/>
                  <a:pt x="21555" y="16041"/>
                  <a:pt x="21605" y="16024"/>
                </a:cubicBezTo>
                <a:cubicBezTo>
                  <a:pt x="21586" y="16240"/>
                  <a:pt x="21528" y="16362"/>
                  <a:pt x="21406" y="16545"/>
                </a:cubicBezTo>
                <a:cubicBezTo>
                  <a:pt x="21527" y="16493"/>
                  <a:pt x="21622" y="16434"/>
                  <a:pt x="21754" y="1642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5120" y="3795840"/>
            <a:ext cx="696960" cy="749160"/>
          </a:xfrm>
          <a:custGeom>
            <a:avLst/>
            <a:gdLst/>
            <a:ahLst/>
            <a:rect l="l" t="t" r="r" b="b"/>
            <a:pathLst>
              <a:path w="1936" h="2085">
                <a:moveTo>
                  <a:pt x="1538" y="11931"/>
                </a:moveTo>
                <a:cubicBezTo>
                  <a:pt x="1425" y="12069"/>
                  <a:pt x="1333" y="12205"/>
                  <a:pt x="1290" y="12378"/>
                </a:cubicBezTo>
                <a:cubicBezTo>
                  <a:pt x="1477" y="12353"/>
                  <a:pt x="1611" y="12336"/>
                  <a:pt x="1786" y="12378"/>
                </a:cubicBezTo>
                <a:cubicBezTo>
                  <a:pt x="1705" y="12632"/>
                  <a:pt x="1749" y="12597"/>
                  <a:pt x="1488" y="12576"/>
                </a:cubicBezTo>
              </a:path>
              <a:path w="1936" h="2085">
                <a:moveTo>
                  <a:pt x="1439" y="11683"/>
                </a:moveTo>
                <a:cubicBezTo>
                  <a:pt x="1660" y="11842"/>
                  <a:pt x="1847" y="11984"/>
                  <a:pt x="2034" y="12179"/>
                </a:cubicBezTo>
              </a:path>
              <a:path w="1936" h="2085">
                <a:moveTo>
                  <a:pt x="1588" y="12080"/>
                </a:moveTo>
                <a:cubicBezTo>
                  <a:pt x="1708" y="11873"/>
                  <a:pt x="1815" y="11555"/>
                  <a:pt x="2034" y="11435"/>
                </a:cubicBezTo>
                <a:cubicBezTo>
                  <a:pt x="2095" y="11435"/>
                  <a:pt x="2111" y="11426"/>
                  <a:pt x="2133" y="11460"/>
                </a:cubicBezTo>
                <a:cubicBezTo>
                  <a:pt x="1957" y="11578"/>
                  <a:pt x="1980" y="11773"/>
                  <a:pt x="2133" y="11931"/>
                </a:cubicBezTo>
                <a:cubicBezTo>
                  <a:pt x="2349" y="12154"/>
                  <a:pt x="2156" y="11593"/>
                  <a:pt x="2133" y="11559"/>
                </a:cubicBezTo>
                <a:cubicBezTo>
                  <a:pt x="2033" y="11508"/>
                  <a:pt x="2335" y="11609"/>
                  <a:pt x="2431" y="11609"/>
                </a:cubicBezTo>
              </a:path>
              <a:path w="1936" h="2085">
                <a:moveTo>
                  <a:pt x="2505" y="11237"/>
                </a:moveTo>
                <a:cubicBezTo>
                  <a:pt x="2480" y="11212"/>
                  <a:pt x="2456" y="11187"/>
                  <a:pt x="2431" y="11162"/>
                </a:cubicBezTo>
                <a:cubicBezTo>
                  <a:pt x="2302" y="11254"/>
                  <a:pt x="2375" y="11534"/>
                  <a:pt x="2555" y="11609"/>
                </a:cubicBezTo>
                <a:cubicBezTo>
                  <a:pt x="2952" y="11775"/>
                  <a:pt x="2587" y="10858"/>
                  <a:pt x="2530" y="10790"/>
                </a:cubicBezTo>
                <a:cubicBezTo>
                  <a:pt x="2472" y="10749"/>
                  <a:pt x="2414" y="10707"/>
                  <a:pt x="2356" y="10666"/>
                </a:cubicBezTo>
                <a:cubicBezTo>
                  <a:pt x="2292" y="10532"/>
                  <a:pt x="2724" y="11034"/>
                  <a:pt x="2778" y="11088"/>
                </a:cubicBezTo>
                <a:cubicBezTo>
                  <a:pt x="2878" y="11188"/>
                  <a:pt x="2920" y="11263"/>
                  <a:pt x="2902" y="11137"/>
                </a:cubicBezTo>
              </a:path>
              <a:path w="1936" h="2085">
                <a:moveTo>
                  <a:pt x="2704" y="10542"/>
                </a:moveTo>
                <a:cubicBezTo>
                  <a:pt x="2716" y="10726"/>
                  <a:pt x="2715" y="10857"/>
                  <a:pt x="2679" y="11038"/>
                </a:cubicBezTo>
                <a:cubicBezTo>
                  <a:pt x="2861" y="10831"/>
                  <a:pt x="2952" y="10870"/>
                  <a:pt x="3225" y="1091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8720" y="3456000"/>
            <a:ext cx="955440" cy="938160"/>
          </a:xfrm>
          <a:custGeom>
            <a:avLst/>
            <a:gdLst/>
            <a:ahLst/>
            <a:rect l="l" t="t" r="r" b="b"/>
            <a:pathLst>
              <a:path w="2655" h="2606">
                <a:moveTo>
                  <a:pt x="3051" y="12129"/>
                </a:moveTo>
                <a:cubicBezTo>
                  <a:pt x="3225" y="12168"/>
                  <a:pt x="3252" y="12169"/>
                  <a:pt x="3349" y="12204"/>
                </a:cubicBezTo>
                <a:cubicBezTo>
                  <a:pt x="3264" y="12043"/>
                  <a:pt x="3153" y="11888"/>
                  <a:pt x="3051" y="11733"/>
                </a:cubicBezTo>
              </a:path>
              <a:path w="2655" h="2606">
                <a:moveTo>
                  <a:pt x="3373" y="11633"/>
                </a:moveTo>
                <a:cubicBezTo>
                  <a:pt x="3354" y="11534"/>
                  <a:pt x="3346" y="11519"/>
                  <a:pt x="3349" y="11460"/>
                </a:cubicBezTo>
                <a:cubicBezTo>
                  <a:pt x="3341" y="11665"/>
                  <a:pt x="3294" y="11886"/>
                  <a:pt x="3547" y="11807"/>
                </a:cubicBezTo>
              </a:path>
              <a:path w="2655" h="2606">
                <a:moveTo>
                  <a:pt x="3597" y="11385"/>
                </a:moveTo>
                <a:cubicBezTo>
                  <a:pt x="3849" y="11710"/>
                  <a:pt x="3682" y="11475"/>
                  <a:pt x="3597" y="11261"/>
                </a:cubicBezTo>
              </a:path>
              <a:path w="2655" h="2606">
                <a:moveTo>
                  <a:pt x="3572" y="10716"/>
                </a:moveTo>
                <a:cubicBezTo>
                  <a:pt x="3724" y="10895"/>
                  <a:pt x="3889" y="11067"/>
                  <a:pt x="4018" y="11261"/>
                </a:cubicBezTo>
              </a:path>
              <a:path w="2655" h="2606">
                <a:moveTo>
                  <a:pt x="3721" y="10939"/>
                </a:moveTo>
                <a:cubicBezTo>
                  <a:pt x="3980" y="10855"/>
                  <a:pt x="3976" y="10848"/>
                  <a:pt x="4217" y="10964"/>
                </a:cubicBezTo>
              </a:path>
              <a:path w="2655" h="2606">
                <a:moveTo>
                  <a:pt x="3845" y="10592"/>
                </a:moveTo>
                <a:lnTo>
                  <a:pt x="3845" y="10592"/>
                </a:lnTo>
              </a:path>
              <a:path w="2655" h="2606">
                <a:moveTo>
                  <a:pt x="4242" y="10468"/>
                </a:moveTo>
                <a:cubicBezTo>
                  <a:pt x="4074" y="10562"/>
                  <a:pt x="4221" y="10722"/>
                  <a:pt x="4366" y="10840"/>
                </a:cubicBezTo>
              </a:path>
              <a:path w="2655" h="2606">
                <a:moveTo>
                  <a:pt x="4490" y="10319"/>
                </a:moveTo>
                <a:cubicBezTo>
                  <a:pt x="4445" y="10526"/>
                  <a:pt x="4453" y="10621"/>
                  <a:pt x="4614" y="10740"/>
                </a:cubicBezTo>
                <a:cubicBezTo>
                  <a:pt x="4652" y="10570"/>
                  <a:pt x="4650" y="10511"/>
                  <a:pt x="4589" y="10344"/>
                </a:cubicBezTo>
                <a:cubicBezTo>
                  <a:pt x="4829" y="10513"/>
                  <a:pt x="4883" y="10435"/>
                  <a:pt x="4936" y="10170"/>
                </a:cubicBezTo>
              </a:path>
              <a:path w="2655" h="2606">
                <a:moveTo>
                  <a:pt x="4415" y="9823"/>
                </a:moveTo>
                <a:cubicBezTo>
                  <a:pt x="4528" y="10005"/>
                  <a:pt x="4674" y="10238"/>
                  <a:pt x="4887" y="10319"/>
                </a:cubicBezTo>
                <a:cubicBezTo>
                  <a:pt x="4928" y="10319"/>
                  <a:pt x="4970" y="10319"/>
                  <a:pt x="5011" y="10319"/>
                </a:cubicBezTo>
              </a:path>
              <a:path w="2655" h="2606">
                <a:moveTo>
                  <a:pt x="4713" y="9674"/>
                </a:moveTo>
                <a:cubicBezTo>
                  <a:pt x="4855" y="9906"/>
                  <a:pt x="4955" y="10081"/>
                  <a:pt x="5209" y="10145"/>
                </a:cubicBezTo>
              </a:path>
              <a:path w="2655" h="2606">
                <a:moveTo>
                  <a:pt x="5135" y="9823"/>
                </a:moveTo>
                <a:cubicBezTo>
                  <a:pt x="5219" y="9907"/>
                  <a:pt x="5532" y="10078"/>
                  <a:pt x="5432" y="9748"/>
                </a:cubicBezTo>
                <a:cubicBezTo>
                  <a:pt x="5399" y="9707"/>
                  <a:pt x="5366" y="9665"/>
                  <a:pt x="5333" y="9624"/>
                </a:cubicBezTo>
                <a:cubicBezTo>
                  <a:pt x="5316" y="9616"/>
                  <a:pt x="5300" y="9607"/>
                  <a:pt x="5283" y="9599"/>
                </a:cubicBezTo>
                <a:cubicBezTo>
                  <a:pt x="5441" y="9787"/>
                  <a:pt x="5759" y="10035"/>
                  <a:pt x="5705" y="10319"/>
                </a:cubicBezTo>
                <a:cubicBezTo>
                  <a:pt x="5672" y="10360"/>
                  <a:pt x="5639" y="10402"/>
                  <a:pt x="5606" y="10443"/>
                </a:cubicBezTo>
              </a:path>
              <a:path w="2655" h="2606">
                <a:moveTo>
                  <a:pt x="3621" y="11237"/>
                </a:moveTo>
                <a:cubicBezTo>
                  <a:pt x="3721" y="11100"/>
                  <a:pt x="3807" y="10962"/>
                  <a:pt x="3894" y="1081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14800" y="3741840"/>
            <a:ext cx="1589040" cy="3027240"/>
          </a:xfrm>
          <a:custGeom>
            <a:avLst/>
            <a:gdLst/>
            <a:ahLst/>
            <a:rect l="l" t="t" r="r" b="b"/>
            <a:pathLst>
              <a:path w="4416" h="8410">
                <a:moveTo>
                  <a:pt x="9550" y="10964"/>
                </a:moveTo>
                <a:cubicBezTo>
                  <a:pt x="9535" y="11141"/>
                  <a:pt x="9518" y="11210"/>
                  <a:pt x="9426" y="11361"/>
                </a:cubicBezTo>
                <a:cubicBezTo>
                  <a:pt x="9584" y="11308"/>
                  <a:pt x="9681" y="11361"/>
                  <a:pt x="9847" y="11385"/>
                </a:cubicBezTo>
              </a:path>
              <a:path w="4416" h="8410">
                <a:moveTo>
                  <a:pt x="9723" y="11013"/>
                </a:moveTo>
                <a:cubicBezTo>
                  <a:pt x="9737" y="11288"/>
                  <a:pt x="9748" y="11557"/>
                  <a:pt x="9748" y="11832"/>
                </a:cubicBezTo>
              </a:path>
              <a:path w="4416" h="8410">
                <a:moveTo>
                  <a:pt x="10368" y="10592"/>
                </a:moveTo>
                <a:cubicBezTo>
                  <a:pt x="10512" y="10529"/>
                  <a:pt x="10654" y="10505"/>
                  <a:pt x="10815" y="10492"/>
                </a:cubicBezTo>
                <a:cubicBezTo>
                  <a:pt x="10778" y="10668"/>
                  <a:pt x="10732" y="10819"/>
                  <a:pt x="10666" y="10988"/>
                </a:cubicBezTo>
              </a:path>
              <a:path w="4416" h="8410">
                <a:moveTo>
                  <a:pt x="10418" y="11237"/>
                </a:moveTo>
                <a:cubicBezTo>
                  <a:pt x="10683" y="11203"/>
                  <a:pt x="10946" y="11153"/>
                  <a:pt x="11212" y="11137"/>
                </a:cubicBezTo>
              </a:path>
              <a:path w="4416" h="8410">
                <a:moveTo>
                  <a:pt x="10468" y="11534"/>
                </a:moveTo>
                <a:cubicBezTo>
                  <a:pt x="10541" y="11722"/>
                  <a:pt x="10504" y="11884"/>
                  <a:pt x="10492" y="12080"/>
                </a:cubicBezTo>
                <a:cubicBezTo>
                  <a:pt x="10492" y="12113"/>
                  <a:pt x="10492" y="12146"/>
                  <a:pt x="10492" y="12179"/>
                </a:cubicBezTo>
              </a:path>
              <a:path w="4416" h="8410">
                <a:moveTo>
                  <a:pt x="10815" y="11559"/>
                </a:moveTo>
                <a:cubicBezTo>
                  <a:pt x="11055" y="11511"/>
                  <a:pt x="11219" y="11543"/>
                  <a:pt x="10988" y="11807"/>
                </a:cubicBezTo>
                <a:cubicBezTo>
                  <a:pt x="10939" y="11848"/>
                  <a:pt x="10889" y="11890"/>
                  <a:pt x="10840" y="11931"/>
                </a:cubicBezTo>
                <a:cubicBezTo>
                  <a:pt x="10823" y="11948"/>
                  <a:pt x="10807" y="11964"/>
                  <a:pt x="10790" y="11981"/>
                </a:cubicBezTo>
                <a:cubicBezTo>
                  <a:pt x="10953" y="11981"/>
                  <a:pt x="11101" y="11963"/>
                  <a:pt x="11261" y="11931"/>
                </a:cubicBezTo>
              </a:path>
              <a:path w="4416" h="8410">
                <a:moveTo>
                  <a:pt x="9079" y="13146"/>
                </a:moveTo>
                <a:cubicBezTo>
                  <a:pt x="9099" y="13330"/>
                  <a:pt x="9103" y="13507"/>
                  <a:pt x="9103" y="13692"/>
                </a:cubicBezTo>
              </a:path>
              <a:path w="4416" h="8410">
                <a:moveTo>
                  <a:pt x="8930" y="13419"/>
                </a:moveTo>
                <a:cubicBezTo>
                  <a:pt x="9094" y="13352"/>
                  <a:pt x="9229" y="13306"/>
                  <a:pt x="9401" y="13271"/>
                </a:cubicBezTo>
              </a:path>
              <a:path w="4416" h="8410">
                <a:moveTo>
                  <a:pt x="9674" y="12973"/>
                </a:moveTo>
                <a:cubicBezTo>
                  <a:pt x="9749" y="12890"/>
                  <a:pt x="9789" y="12865"/>
                  <a:pt x="9897" y="12824"/>
                </a:cubicBezTo>
                <a:cubicBezTo>
                  <a:pt x="9988" y="13168"/>
                  <a:pt x="9747" y="13343"/>
                  <a:pt x="9550" y="13618"/>
                </a:cubicBezTo>
                <a:cubicBezTo>
                  <a:pt x="9517" y="13668"/>
                  <a:pt x="9484" y="13717"/>
                  <a:pt x="9451" y="13767"/>
                </a:cubicBezTo>
                <a:cubicBezTo>
                  <a:pt x="9660" y="13676"/>
                  <a:pt x="9817" y="13605"/>
                  <a:pt x="10046" y="13593"/>
                </a:cubicBezTo>
              </a:path>
              <a:path w="4416" h="8410">
                <a:moveTo>
                  <a:pt x="10716" y="12601"/>
                </a:moveTo>
                <a:cubicBezTo>
                  <a:pt x="10710" y="12714"/>
                  <a:pt x="10696" y="12813"/>
                  <a:pt x="10666" y="12923"/>
                </a:cubicBezTo>
                <a:cubicBezTo>
                  <a:pt x="10821" y="12912"/>
                  <a:pt x="10928" y="12876"/>
                  <a:pt x="11063" y="12799"/>
                </a:cubicBezTo>
              </a:path>
              <a:path w="4416" h="8410">
                <a:moveTo>
                  <a:pt x="10914" y="12526"/>
                </a:moveTo>
                <a:cubicBezTo>
                  <a:pt x="10923" y="12750"/>
                  <a:pt x="10939" y="12971"/>
                  <a:pt x="10939" y="13196"/>
                </a:cubicBezTo>
              </a:path>
              <a:path w="4416" h="8410">
                <a:moveTo>
                  <a:pt x="10641" y="13320"/>
                </a:moveTo>
                <a:cubicBezTo>
                  <a:pt x="10904" y="13243"/>
                  <a:pt x="11161" y="13151"/>
                  <a:pt x="11435" y="13122"/>
                </a:cubicBezTo>
              </a:path>
              <a:path w="4416" h="8410">
                <a:moveTo>
                  <a:pt x="10815" y="13469"/>
                </a:moveTo>
                <a:cubicBezTo>
                  <a:pt x="10815" y="13686"/>
                  <a:pt x="10799" y="13898"/>
                  <a:pt x="10790" y="14114"/>
                </a:cubicBezTo>
              </a:path>
              <a:path w="4416" h="8410">
                <a:moveTo>
                  <a:pt x="11088" y="13593"/>
                </a:moveTo>
                <a:cubicBezTo>
                  <a:pt x="11165" y="13541"/>
                  <a:pt x="11193" y="13525"/>
                  <a:pt x="11261" y="13543"/>
                </a:cubicBezTo>
                <a:cubicBezTo>
                  <a:pt x="11378" y="13748"/>
                  <a:pt x="11241" y="13835"/>
                  <a:pt x="11088" y="14015"/>
                </a:cubicBezTo>
                <a:cubicBezTo>
                  <a:pt x="11080" y="14023"/>
                  <a:pt x="11071" y="14031"/>
                  <a:pt x="11063" y="14039"/>
                </a:cubicBezTo>
                <a:cubicBezTo>
                  <a:pt x="11224" y="14010"/>
                  <a:pt x="11371" y="13974"/>
                  <a:pt x="11534" y="13965"/>
                </a:cubicBezTo>
              </a:path>
              <a:path w="4416" h="8410">
                <a:moveTo>
                  <a:pt x="11435" y="13444"/>
                </a:moveTo>
                <a:cubicBezTo>
                  <a:pt x="11344" y="13478"/>
                  <a:pt x="11235" y="13504"/>
                  <a:pt x="11137" y="13519"/>
                </a:cubicBezTo>
                <a:cubicBezTo>
                  <a:pt x="11025" y="13536"/>
                  <a:pt x="11063" y="13694"/>
                  <a:pt x="11063" y="13791"/>
                </a:cubicBezTo>
                <a:cubicBezTo>
                  <a:pt x="11256" y="13749"/>
                  <a:pt x="11278" y="13716"/>
                  <a:pt x="11435" y="13816"/>
                </a:cubicBezTo>
                <a:cubicBezTo>
                  <a:pt x="11387" y="14034"/>
                  <a:pt x="11279" y="14060"/>
                  <a:pt x="11038" y="14039"/>
                </a:cubicBezTo>
                <a:cubicBezTo>
                  <a:pt x="11005" y="14031"/>
                  <a:pt x="10972" y="14023"/>
                  <a:pt x="10939" y="14015"/>
                </a:cubicBezTo>
                <a:cubicBezTo>
                  <a:pt x="11088" y="14045"/>
                  <a:pt x="11139" y="14077"/>
                  <a:pt x="11286" y="14015"/>
                </a:cubicBezTo>
              </a:path>
              <a:path w="4416" h="8410">
                <a:moveTo>
                  <a:pt x="11385" y="13494"/>
                </a:moveTo>
                <a:cubicBezTo>
                  <a:pt x="11322" y="13522"/>
                  <a:pt x="11164" y="13501"/>
                  <a:pt x="11112" y="13568"/>
                </a:cubicBezTo>
                <a:cubicBezTo>
                  <a:pt x="11088" y="13641"/>
                  <a:pt x="11080" y="13665"/>
                  <a:pt x="11088" y="13717"/>
                </a:cubicBezTo>
                <a:cubicBezTo>
                  <a:pt x="11120" y="13765"/>
                  <a:pt x="11246" y="13753"/>
                  <a:pt x="11311" y="13816"/>
                </a:cubicBezTo>
                <a:cubicBezTo>
                  <a:pt x="11453" y="13951"/>
                  <a:pt x="11176" y="14087"/>
                  <a:pt x="11063" y="14089"/>
                </a:cubicBezTo>
                <a:cubicBezTo>
                  <a:pt x="10964" y="14069"/>
                  <a:pt x="10923" y="14087"/>
                  <a:pt x="10939" y="14015"/>
                </a:cubicBezTo>
              </a:path>
              <a:path w="4416" h="8410">
                <a:moveTo>
                  <a:pt x="9029" y="14709"/>
                </a:moveTo>
                <a:cubicBezTo>
                  <a:pt x="9482" y="14627"/>
                  <a:pt x="9959" y="14618"/>
                  <a:pt x="10418" y="14610"/>
                </a:cubicBezTo>
                <a:cubicBezTo>
                  <a:pt x="10999" y="14600"/>
                  <a:pt x="11559" y="14624"/>
                  <a:pt x="12129" y="14734"/>
                </a:cubicBezTo>
              </a:path>
              <a:path w="4416" h="8410">
                <a:moveTo>
                  <a:pt x="12502" y="13419"/>
                </a:moveTo>
                <a:cubicBezTo>
                  <a:pt x="12498" y="13510"/>
                  <a:pt x="12405" y="13827"/>
                  <a:pt x="12477" y="13891"/>
                </a:cubicBezTo>
                <a:cubicBezTo>
                  <a:pt x="12633" y="14029"/>
                  <a:pt x="12732" y="13828"/>
                  <a:pt x="12799" y="13717"/>
                </a:cubicBezTo>
                <a:cubicBezTo>
                  <a:pt x="12634" y="13700"/>
                  <a:pt x="12623" y="13790"/>
                  <a:pt x="12576" y="13940"/>
                </a:cubicBezTo>
              </a:path>
              <a:path w="4416" h="8410">
                <a:moveTo>
                  <a:pt x="12874" y="13543"/>
                </a:moveTo>
                <a:cubicBezTo>
                  <a:pt x="12773" y="13658"/>
                  <a:pt x="12792" y="13738"/>
                  <a:pt x="12874" y="13866"/>
                </a:cubicBezTo>
                <a:cubicBezTo>
                  <a:pt x="13044" y="13741"/>
                  <a:pt x="13130" y="13651"/>
                  <a:pt x="12898" y="13593"/>
                </a:cubicBezTo>
              </a:path>
              <a:path w="4416" h="8410">
                <a:moveTo>
                  <a:pt x="12526" y="11559"/>
                </a:moveTo>
                <a:cubicBezTo>
                  <a:pt x="12477" y="11698"/>
                  <a:pt x="12460" y="11834"/>
                  <a:pt x="12452" y="11981"/>
                </a:cubicBezTo>
                <a:cubicBezTo>
                  <a:pt x="12622" y="11980"/>
                  <a:pt x="12682" y="11887"/>
                  <a:pt x="12750" y="11733"/>
                </a:cubicBezTo>
                <a:cubicBezTo>
                  <a:pt x="12570" y="11796"/>
                  <a:pt x="12597" y="11764"/>
                  <a:pt x="12576" y="11956"/>
                </a:cubicBezTo>
              </a:path>
              <a:path w="4416" h="8410">
                <a:moveTo>
                  <a:pt x="12874" y="11485"/>
                </a:moveTo>
                <a:cubicBezTo>
                  <a:pt x="12849" y="11601"/>
                  <a:pt x="12845" y="11634"/>
                  <a:pt x="12898" y="11733"/>
                </a:cubicBezTo>
                <a:cubicBezTo>
                  <a:pt x="13079" y="11672"/>
                  <a:pt x="13085" y="11599"/>
                  <a:pt x="12948" y="11485"/>
                </a:cubicBezTo>
              </a:path>
              <a:path w="4416" h="8410">
                <a:moveTo>
                  <a:pt x="12278" y="11435"/>
                </a:moveTo>
                <a:cubicBezTo>
                  <a:pt x="12511" y="11399"/>
                  <a:pt x="12738" y="11327"/>
                  <a:pt x="12973" y="11286"/>
                </a:cubicBezTo>
                <a:cubicBezTo>
                  <a:pt x="13072" y="11266"/>
                  <a:pt x="13087" y="11258"/>
                  <a:pt x="13146" y="11261"/>
                </a:cubicBezTo>
              </a:path>
              <a:path w="4416" h="8410">
                <a:moveTo>
                  <a:pt x="11286" y="11237"/>
                </a:moveTo>
                <a:cubicBezTo>
                  <a:pt x="11223" y="11112"/>
                  <a:pt x="11358" y="11436"/>
                  <a:pt x="11385" y="11485"/>
                </a:cubicBezTo>
              </a:path>
              <a:path w="4416" h="8410">
                <a:moveTo>
                  <a:pt x="11385" y="11137"/>
                </a:moveTo>
                <a:cubicBezTo>
                  <a:pt x="11332" y="11283"/>
                  <a:pt x="11310" y="11454"/>
                  <a:pt x="11261" y="11584"/>
                </a:cubicBezTo>
              </a:path>
              <a:path w="4416" h="8410">
                <a:moveTo>
                  <a:pt x="11807" y="11435"/>
                </a:moveTo>
                <a:cubicBezTo>
                  <a:pt x="11716" y="11389"/>
                  <a:pt x="11667" y="11379"/>
                  <a:pt x="11658" y="11485"/>
                </a:cubicBezTo>
                <a:cubicBezTo>
                  <a:pt x="11658" y="11510"/>
                  <a:pt x="11658" y="11534"/>
                  <a:pt x="11658" y="11559"/>
                </a:cubicBezTo>
                <a:cubicBezTo>
                  <a:pt x="11757" y="11526"/>
                  <a:pt x="11804" y="11474"/>
                  <a:pt x="11906" y="11485"/>
                </a:cubicBezTo>
                <a:cubicBezTo>
                  <a:pt x="11881" y="11696"/>
                  <a:pt x="11866" y="11759"/>
                  <a:pt x="11658" y="11708"/>
                </a:cubicBezTo>
              </a:path>
              <a:path w="4416" h="8410">
                <a:moveTo>
                  <a:pt x="11584" y="11187"/>
                </a:moveTo>
                <a:cubicBezTo>
                  <a:pt x="11662" y="11180"/>
                  <a:pt x="11756" y="11180"/>
                  <a:pt x="11832" y="11162"/>
                </a:cubicBezTo>
                <a:cubicBezTo>
                  <a:pt x="11857" y="11154"/>
                  <a:pt x="11881" y="11145"/>
                  <a:pt x="11906" y="11137"/>
                </a:cubicBezTo>
              </a:path>
              <a:path w="4416" h="8410">
                <a:moveTo>
                  <a:pt x="11782" y="10740"/>
                </a:moveTo>
                <a:cubicBezTo>
                  <a:pt x="11700" y="10771"/>
                  <a:pt x="11653" y="10739"/>
                  <a:pt x="11633" y="10815"/>
                </a:cubicBezTo>
                <a:cubicBezTo>
                  <a:pt x="11625" y="10848"/>
                  <a:pt x="11617" y="10881"/>
                  <a:pt x="11609" y="10914"/>
                </a:cubicBezTo>
                <a:cubicBezTo>
                  <a:pt x="11737" y="10871"/>
                  <a:pt x="11742" y="10850"/>
                  <a:pt x="11857" y="10889"/>
                </a:cubicBezTo>
                <a:cubicBezTo>
                  <a:pt x="11857" y="10997"/>
                  <a:pt x="11850" y="10992"/>
                  <a:pt x="11757" y="11038"/>
                </a:cubicBezTo>
              </a:path>
              <a:path w="4416" h="8410">
                <a:moveTo>
                  <a:pt x="11658" y="10939"/>
                </a:moveTo>
                <a:lnTo>
                  <a:pt x="11658" y="10939"/>
                </a:lnTo>
              </a:path>
              <a:path w="4416" h="8410">
                <a:moveTo>
                  <a:pt x="12378" y="10716"/>
                </a:moveTo>
                <a:cubicBezTo>
                  <a:pt x="12351" y="10620"/>
                  <a:pt x="12362" y="10652"/>
                  <a:pt x="12477" y="10616"/>
                </a:cubicBezTo>
                <a:cubicBezTo>
                  <a:pt x="12484" y="10695"/>
                  <a:pt x="12540" y="10939"/>
                  <a:pt x="12378" y="10939"/>
                </a:cubicBezTo>
                <a:cubicBezTo>
                  <a:pt x="12370" y="10922"/>
                  <a:pt x="12361" y="10906"/>
                  <a:pt x="12353" y="10889"/>
                </a:cubicBezTo>
                <a:cubicBezTo>
                  <a:pt x="12486" y="10897"/>
                  <a:pt x="12641" y="10909"/>
                  <a:pt x="12526" y="11088"/>
                </a:cubicBezTo>
                <a:cubicBezTo>
                  <a:pt x="12450" y="11207"/>
                  <a:pt x="12301" y="11224"/>
                  <a:pt x="12254" y="11112"/>
                </a:cubicBezTo>
              </a:path>
              <a:path w="4416" h="8410">
                <a:moveTo>
                  <a:pt x="12923" y="10393"/>
                </a:moveTo>
                <a:cubicBezTo>
                  <a:pt x="12831" y="10445"/>
                  <a:pt x="12699" y="10463"/>
                  <a:pt x="12675" y="10567"/>
                </a:cubicBezTo>
                <a:cubicBezTo>
                  <a:pt x="12675" y="10663"/>
                  <a:pt x="12673" y="10693"/>
                  <a:pt x="12725" y="10740"/>
                </a:cubicBezTo>
                <a:cubicBezTo>
                  <a:pt x="12783" y="10637"/>
                  <a:pt x="12924" y="10467"/>
                  <a:pt x="13047" y="10666"/>
                </a:cubicBezTo>
                <a:cubicBezTo>
                  <a:pt x="13137" y="10811"/>
                  <a:pt x="13032" y="10880"/>
                  <a:pt x="12948" y="10964"/>
                </a:cubicBezTo>
              </a:path>
              <a:path w="4416" h="8410">
                <a:moveTo>
                  <a:pt x="10319" y="10393"/>
                </a:moveTo>
                <a:cubicBezTo>
                  <a:pt x="10358" y="10501"/>
                  <a:pt x="10400" y="10566"/>
                  <a:pt x="10492" y="10641"/>
                </a:cubicBezTo>
                <a:cubicBezTo>
                  <a:pt x="10592" y="10722"/>
                  <a:pt x="10709" y="10819"/>
                  <a:pt x="10815" y="10889"/>
                </a:cubicBezTo>
                <a:cubicBezTo>
                  <a:pt x="10925" y="10961"/>
                  <a:pt x="11026" y="11038"/>
                  <a:pt x="11137" y="11112"/>
                </a:cubicBezTo>
                <a:cubicBezTo>
                  <a:pt x="11249" y="11186"/>
                  <a:pt x="11355" y="11257"/>
                  <a:pt x="11460" y="11336"/>
                </a:cubicBezTo>
                <a:cubicBezTo>
                  <a:pt x="11551" y="11404"/>
                  <a:pt x="11621" y="11486"/>
                  <a:pt x="11708" y="11559"/>
                </a:cubicBezTo>
                <a:cubicBezTo>
                  <a:pt x="11812" y="11646"/>
                  <a:pt x="11915" y="11716"/>
                  <a:pt x="12030" y="11782"/>
                </a:cubicBezTo>
                <a:cubicBezTo>
                  <a:pt x="12075" y="11808"/>
                  <a:pt x="12114" y="11846"/>
                  <a:pt x="12154" y="11881"/>
                </a:cubicBezTo>
              </a:path>
              <a:path w="4416" h="8410">
                <a:moveTo>
                  <a:pt x="10542" y="12278"/>
                </a:moveTo>
                <a:cubicBezTo>
                  <a:pt x="10566" y="12173"/>
                  <a:pt x="10629" y="12079"/>
                  <a:pt x="10716" y="12005"/>
                </a:cubicBezTo>
                <a:cubicBezTo>
                  <a:pt x="10810" y="11926"/>
                  <a:pt x="10906" y="11845"/>
                  <a:pt x="11013" y="11782"/>
                </a:cubicBezTo>
                <a:cubicBezTo>
                  <a:pt x="11096" y="11733"/>
                  <a:pt x="11158" y="11662"/>
                  <a:pt x="11237" y="11609"/>
                </a:cubicBezTo>
                <a:cubicBezTo>
                  <a:pt x="11304" y="11564"/>
                  <a:pt x="11350" y="11516"/>
                  <a:pt x="11410" y="11460"/>
                </a:cubicBezTo>
                <a:cubicBezTo>
                  <a:pt x="11500" y="11376"/>
                  <a:pt x="11592" y="11290"/>
                  <a:pt x="11658" y="11187"/>
                </a:cubicBezTo>
                <a:cubicBezTo>
                  <a:pt x="11712" y="11102"/>
                  <a:pt x="11766" y="11038"/>
                  <a:pt x="11832" y="10964"/>
                </a:cubicBezTo>
                <a:cubicBezTo>
                  <a:pt x="11896" y="10893"/>
                  <a:pt x="11956" y="10821"/>
                  <a:pt x="12005" y="10740"/>
                </a:cubicBezTo>
              </a:path>
              <a:path w="4416" h="8410">
                <a:moveTo>
                  <a:pt x="12502" y="13246"/>
                </a:moveTo>
                <a:cubicBezTo>
                  <a:pt x="12666" y="13182"/>
                  <a:pt x="12819" y="13117"/>
                  <a:pt x="12998" y="13097"/>
                </a:cubicBezTo>
                <a:cubicBezTo>
                  <a:pt x="13072" y="13097"/>
                  <a:pt x="13081" y="13097"/>
                  <a:pt x="13122" y="13097"/>
                </a:cubicBezTo>
              </a:path>
              <a:path w="4416" h="8410">
                <a:moveTo>
                  <a:pt x="12005" y="13246"/>
                </a:moveTo>
                <a:cubicBezTo>
                  <a:pt x="12082" y="13201"/>
                  <a:pt x="12117" y="13181"/>
                  <a:pt x="12204" y="13171"/>
                </a:cubicBezTo>
              </a:path>
              <a:path w="4416" h="8410">
                <a:moveTo>
                  <a:pt x="12129" y="13345"/>
                </a:moveTo>
                <a:cubicBezTo>
                  <a:pt x="12197" y="13322"/>
                  <a:pt x="12215" y="13318"/>
                  <a:pt x="12254" y="13295"/>
                </a:cubicBezTo>
              </a:path>
              <a:path w="4416" h="8410">
                <a:moveTo>
                  <a:pt x="11385" y="13146"/>
                </a:moveTo>
                <a:cubicBezTo>
                  <a:pt x="11434" y="13188"/>
                  <a:pt x="11448" y="13216"/>
                  <a:pt x="11485" y="13271"/>
                </a:cubicBezTo>
              </a:path>
              <a:path w="4416" h="8410">
                <a:moveTo>
                  <a:pt x="11509" y="13047"/>
                </a:moveTo>
                <a:cubicBezTo>
                  <a:pt x="11468" y="13165"/>
                  <a:pt x="11426" y="13271"/>
                  <a:pt x="11410" y="13395"/>
                </a:cubicBezTo>
              </a:path>
              <a:path w="4416" h="8410">
                <a:moveTo>
                  <a:pt x="11286" y="13122"/>
                </a:moveTo>
                <a:cubicBezTo>
                  <a:pt x="11388" y="13168"/>
                  <a:pt x="11450" y="13218"/>
                  <a:pt x="11534" y="13295"/>
                </a:cubicBezTo>
              </a:path>
              <a:path w="4416" h="8410">
                <a:moveTo>
                  <a:pt x="11683" y="13320"/>
                </a:moveTo>
                <a:cubicBezTo>
                  <a:pt x="11683" y="13369"/>
                  <a:pt x="11671" y="13556"/>
                  <a:pt x="11782" y="13519"/>
                </a:cubicBezTo>
                <a:cubicBezTo>
                  <a:pt x="11828" y="13473"/>
                  <a:pt x="11840" y="13458"/>
                  <a:pt x="11881" y="13444"/>
                </a:cubicBezTo>
              </a:path>
              <a:path w="4416" h="8410">
                <a:moveTo>
                  <a:pt x="11782" y="13295"/>
                </a:moveTo>
                <a:cubicBezTo>
                  <a:pt x="11788" y="13435"/>
                  <a:pt x="11801" y="13555"/>
                  <a:pt x="11832" y="13692"/>
                </a:cubicBezTo>
              </a:path>
              <a:path w="4416" h="8410">
                <a:moveTo>
                  <a:pt x="11633" y="13146"/>
                </a:moveTo>
                <a:cubicBezTo>
                  <a:pt x="11707" y="13122"/>
                  <a:pt x="11783" y="13087"/>
                  <a:pt x="11857" y="13072"/>
                </a:cubicBezTo>
              </a:path>
              <a:path w="4416" h="8410">
                <a:moveTo>
                  <a:pt x="11584" y="12700"/>
                </a:moveTo>
                <a:cubicBezTo>
                  <a:pt x="11584" y="12766"/>
                  <a:pt x="11584" y="12783"/>
                  <a:pt x="11584" y="12824"/>
                </a:cubicBezTo>
                <a:cubicBezTo>
                  <a:pt x="11670" y="12795"/>
                  <a:pt x="11703" y="12788"/>
                  <a:pt x="11757" y="12725"/>
                </a:cubicBezTo>
              </a:path>
              <a:path w="4416" h="8410">
                <a:moveTo>
                  <a:pt x="11708" y="12576"/>
                </a:moveTo>
                <a:cubicBezTo>
                  <a:pt x="11727" y="12683"/>
                  <a:pt x="11751" y="12796"/>
                  <a:pt x="11782" y="12898"/>
                </a:cubicBezTo>
              </a:path>
              <a:path w="4416" h="8410">
                <a:moveTo>
                  <a:pt x="12576" y="12576"/>
                </a:moveTo>
                <a:cubicBezTo>
                  <a:pt x="12548" y="12604"/>
                  <a:pt x="12551" y="12825"/>
                  <a:pt x="12551" y="12948"/>
                </a:cubicBezTo>
              </a:path>
              <a:path w="4416" h="8410">
                <a:moveTo>
                  <a:pt x="12799" y="12402"/>
                </a:moveTo>
                <a:cubicBezTo>
                  <a:pt x="12865" y="12533"/>
                  <a:pt x="12844" y="12734"/>
                  <a:pt x="12923" y="12849"/>
                </a:cubicBezTo>
                <a:cubicBezTo>
                  <a:pt x="12948" y="12865"/>
                  <a:pt x="12973" y="12882"/>
                  <a:pt x="12998" y="12898"/>
                </a:cubicBezTo>
                <a:cubicBezTo>
                  <a:pt x="13136" y="12835"/>
                  <a:pt x="13178" y="12785"/>
                  <a:pt x="13246" y="12650"/>
                </a:cubicBezTo>
                <a:cubicBezTo>
                  <a:pt x="13085" y="12633"/>
                  <a:pt x="13089" y="12753"/>
                  <a:pt x="13072" y="12898"/>
                </a:cubicBezTo>
              </a:path>
              <a:path w="4416" h="8410">
                <a:moveTo>
                  <a:pt x="10344" y="12427"/>
                </a:moveTo>
                <a:cubicBezTo>
                  <a:pt x="10466" y="12505"/>
                  <a:pt x="10560" y="12596"/>
                  <a:pt x="10666" y="12700"/>
                </a:cubicBezTo>
                <a:cubicBezTo>
                  <a:pt x="10980" y="13009"/>
                  <a:pt x="11334" y="13253"/>
                  <a:pt x="11683" y="13519"/>
                </a:cubicBezTo>
                <a:cubicBezTo>
                  <a:pt x="11795" y="13604"/>
                  <a:pt x="11916" y="13688"/>
                  <a:pt x="12030" y="13767"/>
                </a:cubicBezTo>
                <a:cubicBezTo>
                  <a:pt x="12086" y="13806"/>
                  <a:pt x="12138" y="13890"/>
                  <a:pt x="12204" y="13915"/>
                </a:cubicBezTo>
                <a:cubicBezTo>
                  <a:pt x="12221" y="13915"/>
                  <a:pt x="12237" y="13915"/>
                  <a:pt x="12254" y="13915"/>
                </a:cubicBezTo>
              </a:path>
              <a:path w="4416" h="8410">
                <a:moveTo>
                  <a:pt x="10765" y="14139"/>
                </a:moveTo>
                <a:cubicBezTo>
                  <a:pt x="10844" y="13914"/>
                  <a:pt x="10962" y="13851"/>
                  <a:pt x="11137" y="13692"/>
                </a:cubicBezTo>
                <a:cubicBezTo>
                  <a:pt x="11305" y="13539"/>
                  <a:pt x="11463" y="13372"/>
                  <a:pt x="11633" y="13221"/>
                </a:cubicBezTo>
                <a:cubicBezTo>
                  <a:pt x="11724" y="13141"/>
                  <a:pt x="11916" y="13025"/>
                  <a:pt x="11981" y="12923"/>
                </a:cubicBezTo>
                <a:cubicBezTo>
                  <a:pt x="12009" y="12879"/>
                  <a:pt x="12029" y="12846"/>
                  <a:pt x="12080" y="12799"/>
                </a:cubicBezTo>
              </a:path>
              <a:path w="4416" h="8410">
                <a:moveTo>
                  <a:pt x="10914" y="15032"/>
                </a:moveTo>
                <a:cubicBezTo>
                  <a:pt x="10914" y="15123"/>
                  <a:pt x="10914" y="15213"/>
                  <a:pt x="10914" y="15304"/>
                </a:cubicBezTo>
                <a:cubicBezTo>
                  <a:pt x="10992" y="15265"/>
                  <a:pt x="11233" y="15152"/>
                  <a:pt x="11187" y="15354"/>
                </a:cubicBezTo>
                <a:cubicBezTo>
                  <a:pt x="11145" y="15538"/>
                  <a:pt x="10980" y="15517"/>
                  <a:pt x="10864" y="15453"/>
                </a:cubicBezTo>
              </a:path>
              <a:path w="4416" h="8410">
                <a:moveTo>
                  <a:pt x="10914" y="15081"/>
                </a:moveTo>
                <a:cubicBezTo>
                  <a:pt x="11001" y="15064"/>
                  <a:pt x="11120" y="14999"/>
                  <a:pt x="11212" y="15007"/>
                </a:cubicBezTo>
                <a:cubicBezTo>
                  <a:pt x="11228" y="15015"/>
                  <a:pt x="11245" y="15024"/>
                  <a:pt x="11261" y="15032"/>
                </a:cubicBezTo>
              </a:path>
              <a:path w="4416" h="8410">
                <a:moveTo>
                  <a:pt x="11410" y="15007"/>
                </a:moveTo>
                <a:cubicBezTo>
                  <a:pt x="11463" y="15149"/>
                  <a:pt x="11460" y="15277"/>
                  <a:pt x="11460" y="15429"/>
                </a:cubicBezTo>
                <a:cubicBezTo>
                  <a:pt x="11460" y="15487"/>
                  <a:pt x="11460" y="15495"/>
                  <a:pt x="11460" y="15528"/>
                </a:cubicBezTo>
              </a:path>
              <a:path w="4416" h="8410">
                <a:moveTo>
                  <a:pt x="10740" y="15677"/>
                </a:moveTo>
                <a:cubicBezTo>
                  <a:pt x="10980" y="15677"/>
                  <a:pt x="11220" y="15677"/>
                  <a:pt x="11460" y="15677"/>
                </a:cubicBezTo>
              </a:path>
              <a:path w="4416" h="8410">
                <a:moveTo>
                  <a:pt x="11038" y="15900"/>
                </a:moveTo>
                <a:cubicBezTo>
                  <a:pt x="10984" y="16022"/>
                  <a:pt x="10927" y="16115"/>
                  <a:pt x="10914" y="16247"/>
                </a:cubicBezTo>
                <a:cubicBezTo>
                  <a:pt x="11064" y="16294"/>
                  <a:pt x="11119" y="16243"/>
                  <a:pt x="11212" y="16098"/>
                </a:cubicBezTo>
                <a:cubicBezTo>
                  <a:pt x="11220" y="16082"/>
                  <a:pt x="11229" y="16065"/>
                  <a:pt x="11237" y="16049"/>
                </a:cubicBezTo>
                <a:cubicBezTo>
                  <a:pt x="11137" y="16075"/>
                  <a:pt x="11000" y="16084"/>
                  <a:pt x="10988" y="16222"/>
                </a:cubicBezTo>
                <a:cubicBezTo>
                  <a:pt x="11012" y="16270"/>
                  <a:pt x="11018" y="16287"/>
                  <a:pt x="11063" y="16272"/>
                </a:cubicBezTo>
              </a:path>
              <a:path w="4416" h="8410">
                <a:moveTo>
                  <a:pt x="11410" y="15925"/>
                </a:moveTo>
                <a:cubicBezTo>
                  <a:pt x="11367" y="16001"/>
                  <a:pt x="11291" y="16064"/>
                  <a:pt x="11336" y="16148"/>
                </a:cubicBezTo>
                <a:cubicBezTo>
                  <a:pt x="11412" y="16290"/>
                  <a:pt x="11531" y="16117"/>
                  <a:pt x="11559" y="16049"/>
                </a:cubicBezTo>
                <a:cubicBezTo>
                  <a:pt x="11621" y="15898"/>
                  <a:pt x="11553" y="15900"/>
                  <a:pt x="11435" y="15900"/>
                </a:cubicBezTo>
              </a:path>
              <a:path w="4416" h="8410">
                <a:moveTo>
                  <a:pt x="11857" y="15280"/>
                </a:moveTo>
                <a:cubicBezTo>
                  <a:pt x="11949" y="15295"/>
                  <a:pt x="12007" y="15286"/>
                  <a:pt x="12105" y="15280"/>
                </a:cubicBezTo>
              </a:path>
              <a:path w="4416" h="8410">
                <a:moveTo>
                  <a:pt x="11906" y="15602"/>
                </a:moveTo>
                <a:cubicBezTo>
                  <a:pt x="11997" y="15602"/>
                  <a:pt x="12022" y="15602"/>
                  <a:pt x="12080" y="15602"/>
                </a:cubicBezTo>
              </a:path>
              <a:path w="4416" h="8410">
                <a:moveTo>
                  <a:pt x="12750" y="15081"/>
                </a:moveTo>
                <a:cubicBezTo>
                  <a:pt x="12789" y="15122"/>
                  <a:pt x="12752" y="15419"/>
                  <a:pt x="12725" y="15553"/>
                </a:cubicBezTo>
                <a:cubicBezTo>
                  <a:pt x="12717" y="15578"/>
                  <a:pt x="12708" y="15602"/>
                  <a:pt x="12700" y="15627"/>
                </a:cubicBezTo>
              </a:path>
              <a:path w="4416" h="8410">
                <a:moveTo>
                  <a:pt x="13072" y="15081"/>
                </a:moveTo>
                <a:cubicBezTo>
                  <a:pt x="13064" y="15114"/>
                  <a:pt x="13055" y="15147"/>
                  <a:pt x="13047" y="15180"/>
                </a:cubicBezTo>
                <a:cubicBezTo>
                  <a:pt x="13020" y="14979"/>
                  <a:pt x="13036" y="15043"/>
                  <a:pt x="13196" y="15007"/>
                </a:cubicBezTo>
                <a:cubicBezTo>
                  <a:pt x="13244" y="14983"/>
                  <a:pt x="13258" y="14975"/>
                  <a:pt x="13295" y="14982"/>
                </a:cubicBezTo>
                <a:cubicBezTo>
                  <a:pt x="13284" y="15166"/>
                  <a:pt x="13260" y="15322"/>
                  <a:pt x="13221" y="15503"/>
                </a:cubicBezTo>
              </a:path>
              <a:path w="4416" h="8410">
                <a:moveTo>
                  <a:pt x="12452" y="15825"/>
                </a:moveTo>
                <a:cubicBezTo>
                  <a:pt x="12665" y="15806"/>
                  <a:pt x="12863" y="15723"/>
                  <a:pt x="13072" y="15677"/>
                </a:cubicBezTo>
                <a:cubicBezTo>
                  <a:pt x="13197" y="15656"/>
                  <a:pt x="13224" y="15655"/>
                  <a:pt x="13295" y="15627"/>
                </a:cubicBezTo>
              </a:path>
              <a:path w="4416" h="8410">
                <a:moveTo>
                  <a:pt x="12650" y="16049"/>
                </a:moveTo>
                <a:cubicBezTo>
                  <a:pt x="12739" y="16005"/>
                  <a:pt x="12759" y="15988"/>
                  <a:pt x="12824" y="15999"/>
                </a:cubicBezTo>
                <a:cubicBezTo>
                  <a:pt x="12785" y="16195"/>
                  <a:pt x="12674" y="16273"/>
                  <a:pt x="12576" y="16446"/>
                </a:cubicBezTo>
                <a:cubicBezTo>
                  <a:pt x="12708" y="16383"/>
                  <a:pt x="12832" y="16318"/>
                  <a:pt x="12973" y="16297"/>
                </a:cubicBezTo>
              </a:path>
              <a:path w="4416" h="8410">
                <a:moveTo>
                  <a:pt x="13122" y="15974"/>
                </a:moveTo>
                <a:cubicBezTo>
                  <a:pt x="13068" y="16115"/>
                  <a:pt x="13031" y="16175"/>
                  <a:pt x="13072" y="16297"/>
                </a:cubicBezTo>
                <a:cubicBezTo>
                  <a:pt x="13195" y="16289"/>
                  <a:pt x="13445" y="16183"/>
                  <a:pt x="13295" y="15999"/>
                </a:cubicBezTo>
                <a:cubicBezTo>
                  <a:pt x="13270" y="15991"/>
                  <a:pt x="13246" y="15982"/>
                  <a:pt x="13221" y="15974"/>
                </a:cubicBezTo>
              </a:path>
              <a:path w="4416" h="8410">
                <a:moveTo>
                  <a:pt x="10691" y="14982"/>
                </a:moveTo>
                <a:cubicBezTo>
                  <a:pt x="10972" y="15221"/>
                  <a:pt x="11038" y="15514"/>
                  <a:pt x="11212" y="15825"/>
                </a:cubicBezTo>
                <a:cubicBezTo>
                  <a:pt x="11276" y="15939"/>
                  <a:pt x="11366" y="16019"/>
                  <a:pt x="11435" y="16123"/>
                </a:cubicBezTo>
              </a:path>
              <a:path w="4416" h="8410">
                <a:moveTo>
                  <a:pt x="11658" y="14908"/>
                </a:moveTo>
                <a:cubicBezTo>
                  <a:pt x="11431" y="15207"/>
                  <a:pt x="11185" y="15505"/>
                  <a:pt x="10988" y="15825"/>
                </a:cubicBezTo>
                <a:cubicBezTo>
                  <a:pt x="10909" y="15984"/>
                  <a:pt x="10900" y="16013"/>
                  <a:pt x="10840" y="16098"/>
                </a:cubicBezTo>
              </a:path>
              <a:path w="4416" h="8410">
                <a:moveTo>
                  <a:pt x="9748" y="15032"/>
                </a:moveTo>
                <a:cubicBezTo>
                  <a:pt x="9661" y="15198"/>
                  <a:pt x="9578" y="15390"/>
                  <a:pt x="9550" y="15577"/>
                </a:cubicBezTo>
                <a:cubicBezTo>
                  <a:pt x="9528" y="15720"/>
                  <a:pt x="9522" y="15962"/>
                  <a:pt x="9575" y="16098"/>
                </a:cubicBezTo>
                <a:cubicBezTo>
                  <a:pt x="9607" y="16180"/>
                  <a:pt x="9628" y="16228"/>
                  <a:pt x="9723" y="16247"/>
                </a:cubicBezTo>
                <a:cubicBezTo>
                  <a:pt x="9826" y="16268"/>
                  <a:pt x="9973" y="16135"/>
                  <a:pt x="10046" y="16073"/>
                </a:cubicBezTo>
                <a:cubicBezTo>
                  <a:pt x="10141" y="15992"/>
                  <a:pt x="10161" y="15934"/>
                  <a:pt x="10120" y="15825"/>
                </a:cubicBezTo>
                <a:cubicBezTo>
                  <a:pt x="9992" y="15847"/>
                  <a:pt x="9969" y="15844"/>
                  <a:pt x="9947" y="15999"/>
                </a:cubicBezTo>
                <a:cubicBezTo>
                  <a:pt x="9934" y="16094"/>
                  <a:pt x="9962" y="16180"/>
                  <a:pt x="9971" y="16272"/>
                </a:cubicBezTo>
              </a:path>
              <a:path w="4416" h="8410">
                <a:moveTo>
                  <a:pt x="10517" y="17338"/>
                </a:moveTo>
                <a:cubicBezTo>
                  <a:pt x="10497" y="17292"/>
                  <a:pt x="10487" y="17261"/>
                  <a:pt x="10468" y="17214"/>
                </a:cubicBezTo>
                <a:cubicBezTo>
                  <a:pt x="10414" y="17455"/>
                  <a:pt x="10363" y="17711"/>
                  <a:pt x="10344" y="17959"/>
                </a:cubicBezTo>
                <a:cubicBezTo>
                  <a:pt x="10331" y="18138"/>
                  <a:pt x="10394" y="18261"/>
                  <a:pt x="10592" y="18182"/>
                </a:cubicBezTo>
                <a:cubicBezTo>
                  <a:pt x="10783" y="18106"/>
                  <a:pt x="10879" y="17930"/>
                  <a:pt x="10964" y="17760"/>
                </a:cubicBezTo>
                <a:cubicBezTo>
                  <a:pt x="10755" y="17821"/>
                  <a:pt x="10702" y="17912"/>
                  <a:pt x="10666" y="18132"/>
                </a:cubicBezTo>
              </a:path>
              <a:path w="4416" h="8410">
                <a:moveTo>
                  <a:pt x="11336" y="16966"/>
                </a:moveTo>
                <a:cubicBezTo>
                  <a:pt x="11294" y="17147"/>
                  <a:pt x="11256" y="17334"/>
                  <a:pt x="11286" y="17512"/>
                </a:cubicBezTo>
              </a:path>
              <a:path w="4416" h="8410">
                <a:moveTo>
                  <a:pt x="11485" y="17016"/>
                </a:moveTo>
                <a:cubicBezTo>
                  <a:pt x="11520" y="16992"/>
                  <a:pt x="11609" y="16933"/>
                  <a:pt x="11658" y="16966"/>
                </a:cubicBezTo>
                <a:cubicBezTo>
                  <a:pt x="11785" y="17051"/>
                  <a:pt x="11664" y="17277"/>
                  <a:pt x="11633" y="17388"/>
                </a:cubicBezTo>
                <a:cubicBezTo>
                  <a:pt x="11625" y="17413"/>
                  <a:pt x="11617" y="17437"/>
                  <a:pt x="11609" y="17462"/>
                </a:cubicBezTo>
              </a:path>
              <a:path w="4416" h="8410">
                <a:moveTo>
                  <a:pt x="11237" y="17686"/>
                </a:moveTo>
                <a:cubicBezTo>
                  <a:pt x="11425" y="17608"/>
                  <a:pt x="11613" y="17498"/>
                  <a:pt x="11807" y="17512"/>
                </a:cubicBezTo>
              </a:path>
              <a:path w="4416" h="8410">
                <a:moveTo>
                  <a:pt x="11286" y="18008"/>
                </a:moveTo>
                <a:cubicBezTo>
                  <a:pt x="11368" y="17962"/>
                  <a:pt x="11449" y="17923"/>
                  <a:pt x="11534" y="17884"/>
                </a:cubicBezTo>
                <a:cubicBezTo>
                  <a:pt x="11507" y="18036"/>
                  <a:pt x="11430" y="18167"/>
                  <a:pt x="11361" y="18306"/>
                </a:cubicBezTo>
                <a:cubicBezTo>
                  <a:pt x="11468" y="18328"/>
                  <a:pt x="11502" y="18303"/>
                  <a:pt x="11609" y="18256"/>
                </a:cubicBezTo>
              </a:path>
              <a:path w="4416" h="8410">
                <a:moveTo>
                  <a:pt x="11857" y="17711"/>
                </a:moveTo>
                <a:cubicBezTo>
                  <a:pt x="11857" y="17860"/>
                  <a:pt x="11857" y="18008"/>
                  <a:pt x="11857" y="18157"/>
                </a:cubicBezTo>
              </a:path>
              <a:path w="4416" h="8410">
                <a:moveTo>
                  <a:pt x="9897" y="18256"/>
                </a:moveTo>
                <a:cubicBezTo>
                  <a:pt x="10049" y="18428"/>
                  <a:pt x="10146" y="18629"/>
                  <a:pt x="10368" y="18728"/>
                </a:cubicBezTo>
                <a:cubicBezTo>
                  <a:pt x="10634" y="18847"/>
                  <a:pt x="10891" y="18789"/>
                  <a:pt x="11162" y="18752"/>
                </a:cubicBezTo>
                <a:cubicBezTo>
                  <a:pt x="11607" y="18691"/>
                  <a:pt x="12049" y="18551"/>
                  <a:pt x="12402" y="18256"/>
                </a:cubicBezTo>
                <a:cubicBezTo>
                  <a:pt x="12626" y="18069"/>
                  <a:pt x="12765" y="17681"/>
                  <a:pt x="12750" y="17388"/>
                </a:cubicBezTo>
                <a:cubicBezTo>
                  <a:pt x="12738" y="17165"/>
                  <a:pt x="12629" y="16837"/>
                  <a:pt x="12477" y="16669"/>
                </a:cubicBezTo>
                <a:cubicBezTo>
                  <a:pt x="12336" y="16513"/>
                  <a:pt x="12037" y="16347"/>
                  <a:pt x="11832" y="16297"/>
                </a:cubicBezTo>
                <a:cubicBezTo>
                  <a:pt x="11453" y="16205"/>
                  <a:pt x="11063" y="16301"/>
                  <a:pt x="10716" y="16446"/>
                </a:cubicBezTo>
                <a:cubicBezTo>
                  <a:pt x="10378" y="16588"/>
                  <a:pt x="9999" y="16818"/>
                  <a:pt x="9748" y="17090"/>
                </a:cubicBezTo>
                <a:cubicBezTo>
                  <a:pt x="9486" y="17373"/>
                  <a:pt x="9452" y="17559"/>
                  <a:pt x="9599" y="17909"/>
                </a:cubicBezTo>
                <a:cubicBezTo>
                  <a:pt x="9708" y="18168"/>
                  <a:pt x="9862" y="18396"/>
                  <a:pt x="10046" y="18604"/>
                </a:cubicBezTo>
              </a:path>
              <a:path w="4416" h="8410">
                <a:moveTo>
                  <a:pt x="11807" y="17711"/>
                </a:moveTo>
                <a:cubicBezTo>
                  <a:pt x="11807" y="17850"/>
                  <a:pt x="11843" y="17971"/>
                  <a:pt x="11857" y="18107"/>
                </a:cubicBezTo>
                <a:cubicBezTo>
                  <a:pt x="11869" y="18222"/>
                  <a:pt x="11863" y="18240"/>
                  <a:pt x="11956" y="18306"/>
                </a:cubicBezTo>
                <a:cubicBezTo>
                  <a:pt x="12021" y="18268"/>
                  <a:pt x="12096" y="18249"/>
                  <a:pt x="12129" y="18182"/>
                </a:cubicBezTo>
                <a:cubicBezTo>
                  <a:pt x="12186" y="18066"/>
                  <a:pt x="12147" y="17924"/>
                  <a:pt x="12105" y="17810"/>
                </a:cubicBezTo>
                <a:cubicBezTo>
                  <a:pt x="12067" y="17708"/>
                  <a:pt x="11972" y="17694"/>
                  <a:pt x="11881" y="176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39000" y="5456160"/>
            <a:ext cx="1803240" cy="1330560"/>
          </a:xfrm>
          <a:custGeom>
            <a:avLst/>
            <a:gdLst/>
            <a:ahLst/>
            <a:rect l="l" t="t" r="r" b="b"/>
            <a:pathLst>
              <a:path w="5012" h="3697">
                <a:moveTo>
                  <a:pt x="22002" y="16073"/>
                </a:moveTo>
                <a:cubicBezTo>
                  <a:pt x="21914" y="16194"/>
                  <a:pt x="21889" y="16295"/>
                  <a:pt x="21878" y="16446"/>
                </a:cubicBezTo>
                <a:cubicBezTo>
                  <a:pt x="21981" y="16411"/>
                  <a:pt x="22296" y="16253"/>
                  <a:pt x="22151" y="16073"/>
                </a:cubicBezTo>
                <a:cubicBezTo>
                  <a:pt x="22051" y="16049"/>
                  <a:pt x="22018" y="16041"/>
                  <a:pt x="21952" y="16073"/>
                </a:cubicBezTo>
              </a:path>
              <a:path w="5012" h="3697">
                <a:moveTo>
                  <a:pt x="22473" y="15900"/>
                </a:moveTo>
                <a:cubicBezTo>
                  <a:pt x="22427" y="15808"/>
                  <a:pt x="22546" y="15805"/>
                  <a:pt x="22597" y="15825"/>
                </a:cubicBezTo>
              </a:path>
              <a:path w="5012" h="3697">
                <a:moveTo>
                  <a:pt x="22423" y="15677"/>
                </a:moveTo>
                <a:cubicBezTo>
                  <a:pt x="22415" y="15669"/>
                  <a:pt x="22407" y="15660"/>
                  <a:pt x="22399" y="15652"/>
                </a:cubicBezTo>
              </a:path>
              <a:path w="5012" h="3697">
                <a:moveTo>
                  <a:pt x="22523" y="15999"/>
                </a:moveTo>
                <a:lnTo>
                  <a:pt x="22523" y="15999"/>
                </a:lnTo>
              </a:path>
              <a:path w="5012" h="3697">
                <a:moveTo>
                  <a:pt x="22746" y="15528"/>
                </a:moveTo>
                <a:cubicBezTo>
                  <a:pt x="22761" y="15660"/>
                  <a:pt x="22746" y="15623"/>
                  <a:pt x="22870" y="15652"/>
                </a:cubicBezTo>
              </a:path>
              <a:path w="5012" h="3697">
                <a:moveTo>
                  <a:pt x="22895" y="15503"/>
                </a:moveTo>
                <a:cubicBezTo>
                  <a:pt x="22901" y="15652"/>
                  <a:pt x="22909" y="15779"/>
                  <a:pt x="22895" y="15925"/>
                </a:cubicBezTo>
              </a:path>
              <a:path w="5012" h="3697">
                <a:moveTo>
                  <a:pt x="22820" y="15949"/>
                </a:moveTo>
                <a:cubicBezTo>
                  <a:pt x="22870" y="15924"/>
                  <a:pt x="22919" y="15900"/>
                  <a:pt x="22969" y="15875"/>
                </a:cubicBezTo>
              </a:path>
              <a:path w="5012" h="3697">
                <a:moveTo>
                  <a:pt x="22895" y="15925"/>
                </a:moveTo>
                <a:cubicBezTo>
                  <a:pt x="22870" y="15999"/>
                  <a:pt x="22862" y="16024"/>
                  <a:pt x="22845" y="16073"/>
                </a:cubicBezTo>
                <a:cubicBezTo>
                  <a:pt x="23012" y="16064"/>
                  <a:pt x="22976" y="16080"/>
                  <a:pt x="23093" y="15949"/>
                </a:cubicBezTo>
                <a:cubicBezTo>
                  <a:pt x="23049" y="16049"/>
                  <a:pt x="23049" y="16135"/>
                  <a:pt x="23044" y="16247"/>
                </a:cubicBezTo>
              </a:path>
              <a:path w="5012" h="3697">
                <a:moveTo>
                  <a:pt x="23217" y="15850"/>
                </a:moveTo>
                <a:cubicBezTo>
                  <a:pt x="23340" y="15825"/>
                  <a:pt x="23381" y="15817"/>
                  <a:pt x="23465" y="15825"/>
                </a:cubicBezTo>
              </a:path>
              <a:path w="5012" h="3697">
                <a:moveTo>
                  <a:pt x="23267" y="15999"/>
                </a:moveTo>
                <a:cubicBezTo>
                  <a:pt x="23308" y="15974"/>
                  <a:pt x="23350" y="15950"/>
                  <a:pt x="23391" y="15925"/>
                </a:cubicBezTo>
              </a:path>
              <a:path w="5012" h="3697">
                <a:moveTo>
                  <a:pt x="23862" y="15280"/>
                </a:moveTo>
                <a:cubicBezTo>
                  <a:pt x="23862" y="15333"/>
                  <a:pt x="23845" y="15583"/>
                  <a:pt x="23986" y="15528"/>
                </a:cubicBezTo>
                <a:cubicBezTo>
                  <a:pt x="24059" y="15455"/>
                  <a:pt x="24084" y="15432"/>
                  <a:pt x="24061" y="15354"/>
                </a:cubicBezTo>
              </a:path>
              <a:path w="5012" h="3697">
                <a:moveTo>
                  <a:pt x="23937" y="15156"/>
                </a:moveTo>
                <a:cubicBezTo>
                  <a:pt x="24013" y="15384"/>
                  <a:pt x="24037" y="15463"/>
                  <a:pt x="23986" y="15627"/>
                </a:cubicBezTo>
              </a:path>
              <a:path w="5012" h="3697">
                <a:moveTo>
                  <a:pt x="23887" y="15825"/>
                </a:moveTo>
                <a:cubicBezTo>
                  <a:pt x="24004" y="15795"/>
                  <a:pt x="24119" y="15762"/>
                  <a:pt x="24234" y="15726"/>
                </a:cubicBezTo>
              </a:path>
              <a:path w="5012" h="3697">
                <a:moveTo>
                  <a:pt x="23887" y="16024"/>
                </a:moveTo>
                <a:cubicBezTo>
                  <a:pt x="24008" y="16048"/>
                  <a:pt x="24014" y="16094"/>
                  <a:pt x="24110" y="16024"/>
                </a:cubicBezTo>
                <a:cubicBezTo>
                  <a:pt x="24282" y="15899"/>
                  <a:pt x="24058" y="16155"/>
                  <a:pt x="23961" y="16197"/>
                </a:cubicBezTo>
              </a:path>
              <a:path w="5012" h="3697">
                <a:moveTo>
                  <a:pt x="24036" y="15825"/>
                </a:moveTo>
                <a:cubicBezTo>
                  <a:pt x="24160" y="15825"/>
                  <a:pt x="24201" y="15825"/>
                  <a:pt x="24284" y="15825"/>
                </a:cubicBezTo>
              </a:path>
              <a:path w="5012" h="3697">
                <a:moveTo>
                  <a:pt x="21332" y="17041"/>
                </a:moveTo>
                <a:cubicBezTo>
                  <a:pt x="21319" y="17160"/>
                  <a:pt x="21295" y="17269"/>
                  <a:pt x="21282" y="17388"/>
                </a:cubicBezTo>
                <a:cubicBezTo>
                  <a:pt x="21477" y="17378"/>
                  <a:pt x="21558" y="17349"/>
                  <a:pt x="21729" y="17264"/>
                </a:cubicBezTo>
              </a:path>
              <a:path w="5012" h="3697">
                <a:moveTo>
                  <a:pt x="21679" y="17016"/>
                </a:moveTo>
                <a:cubicBezTo>
                  <a:pt x="21660" y="17223"/>
                  <a:pt x="21648" y="17428"/>
                  <a:pt x="21630" y="17636"/>
                </a:cubicBezTo>
              </a:path>
              <a:path w="5012" h="3697">
                <a:moveTo>
                  <a:pt x="21134" y="17785"/>
                </a:moveTo>
                <a:cubicBezTo>
                  <a:pt x="21433" y="17723"/>
                  <a:pt x="21722" y="17673"/>
                  <a:pt x="22027" y="17661"/>
                </a:cubicBezTo>
              </a:path>
              <a:path w="5012" h="3697">
                <a:moveTo>
                  <a:pt x="21630" y="17835"/>
                </a:moveTo>
                <a:cubicBezTo>
                  <a:pt x="21575" y="17839"/>
                  <a:pt x="21349" y="17839"/>
                  <a:pt x="21332" y="17909"/>
                </a:cubicBezTo>
                <a:cubicBezTo>
                  <a:pt x="21332" y="18008"/>
                  <a:pt x="21332" y="18025"/>
                  <a:pt x="21332" y="18083"/>
                </a:cubicBezTo>
                <a:cubicBezTo>
                  <a:pt x="21487" y="18073"/>
                  <a:pt x="21571" y="18048"/>
                  <a:pt x="21704" y="18132"/>
                </a:cubicBezTo>
                <a:cubicBezTo>
                  <a:pt x="21613" y="18329"/>
                  <a:pt x="21513" y="18400"/>
                  <a:pt x="21282" y="18405"/>
                </a:cubicBezTo>
                <a:cubicBezTo>
                  <a:pt x="21257" y="18397"/>
                  <a:pt x="21233" y="18388"/>
                  <a:pt x="21208" y="18380"/>
                </a:cubicBezTo>
              </a:path>
              <a:path w="5012" h="3697">
                <a:moveTo>
                  <a:pt x="19869" y="17413"/>
                </a:moveTo>
                <a:cubicBezTo>
                  <a:pt x="19848" y="17495"/>
                  <a:pt x="19840" y="17511"/>
                  <a:pt x="19844" y="17562"/>
                </a:cubicBezTo>
                <a:cubicBezTo>
                  <a:pt x="19932" y="17350"/>
                  <a:pt x="20045" y="17446"/>
                  <a:pt x="20042" y="17686"/>
                </a:cubicBezTo>
                <a:cubicBezTo>
                  <a:pt x="20038" y="17958"/>
                  <a:pt x="19868" y="18157"/>
                  <a:pt x="19621" y="18157"/>
                </a:cubicBezTo>
                <a:cubicBezTo>
                  <a:pt x="19643" y="17947"/>
                  <a:pt x="19736" y="17771"/>
                  <a:pt x="19993" y="17909"/>
                </a:cubicBezTo>
                <a:cubicBezTo>
                  <a:pt x="20102" y="18018"/>
                  <a:pt x="20133" y="18040"/>
                  <a:pt x="20166" y="18132"/>
                </a:cubicBezTo>
              </a:path>
              <a:path w="5012" h="3697">
                <a:moveTo>
                  <a:pt x="20365" y="17438"/>
                </a:moveTo>
                <a:cubicBezTo>
                  <a:pt x="20319" y="17664"/>
                  <a:pt x="20311" y="17748"/>
                  <a:pt x="20389" y="17959"/>
                </a:cubicBezTo>
                <a:cubicBezTo>
                  <a:pt x="20535" y="17917"/>
                  <a:pt x="20902" y="17743"/>
                  <a:pt x="20712" y="17512"/>
                </a:cubicBezTo>
                <a:cubicBezTo>
                  <a:pt x="20559" y="17436"/>
                  <a:pt x="20504" y="17410"/>
                  <a:pt x="20389" y="17388"/>
                </a:cubicBezTo>
              </a:path>
              <a:path w="5012" h="3697">
                <a:moveTo>
                  <a:pt x="22101" y="17115"/>
                </a:moveTo>
                <a:cubicBezTo>
                  <a:pt x="21989" y="17091"/>
                  <a:pt x="21888" y="17048"/>
                  <a:pt x="21779" y="17016"/>
                </a:cubicBezTo>
                <a:cubicBezTo>
                  <a:pt x="21606" y="16965"/>
                  <a:pt x="21433" y="16964"/>
                  <a:pt x="21258" y="16942"/>
                </a:cubicBezTo>
                <a:cubicBezTo>
                  <a:pt x="21079" y="16920"/>
                  <a:pt x="20893" y="16880"/>
                  <a:pt x="20712" y="16892"/>
                </a:cubicBezTo>
                <a:cubicBezTo>
                  <a:pt x="20442" y="16910"/>
                  <a:pt x="20204" y="17015"/>
                  <a:pt x="19968" y="17140"/>
                </a:cubicBezTo>
                <a:cubicBezTo>
                  <a:pt x="19752" y="17254"/>
                  <a:pt x="19530" y="17425"/>
                  <a:pt x="19397" y="17636"/>
                </a:cubicBezTo>
                <a:cubicBezTo>
                  <a:pt x="19252" y="17866"/>
                  <a:pt x="19232" y="18094"/>
                  <a:pt x="19348" y="18331"/>
                </a:cubicBezTo>
                <a:cubicBezTo>
                  <a:pt x="19475" y="18591"/>
                  <a:pt x="19709" y="18641"/>
                  <a:pt x="19968" y="18703"/>
                </a:cubicBezTo>
                <a:cubicBezTo>
                  <a:pt x="20162" y="18749"/>
                  <a:pt x="20345" y="18807"/>
                  <a:pt x="20538" y="18852"/>
                </a:cubicBezTo>
              </a:path>
              <a:path w="5012" h="3697">
                <a:moveTo>
                  <a:pt x="22175" y="17140"/>
                </a:moveTo>
                <a:cubicBezTo>
                  <a:pt x="22345" y="17196"/>
                  <a:pt x="22399" y="17368"/>
                  <a:pt x="22399" y="17562"/>
                </a:cubicBezTo>
                <a:cubicBezTo>
                  <a:pt x="22399" y="17809"/>
                  <a:pt x="22236" y="17998"/>
                  <a:pt x="22027" y="18107"/>
                </a:cubicBezTo>
                <a:cubicBezTo>
                  <a:pt x="21770" y="18242"/>
                  <a:pt x="21473" y="18311"/>
                  <a:pt x="21233" y="18479"/>
                </a:cubicBezTo>
                <a:cubicBezTo>
                  <a:pt x="21097" y="18574"/>
                  <a:pt x="21059" y="18579"/>
                  <a:pt x="20886" y="18579"/>
                </a:cubicBezTo>
                <a:cubicBezTo>
                  <a:pt x="20793" y="18579"/>
                  <a:pt x="20767" y="18577"/>
                  <a:pt x="20712" y="1860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ck, Knock, Who’s There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08T17:59:21Z</dcterms:modified>
  <cp:revision>34</cp:revision>
  <dc:subject/>
  <dc:title>Unit 1 – Variables and Equations </dc:title>
</cp:coreProperties>
</file>